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2.wmf" ContentType="image/x-wmf"/>
  <Override PartName="/ppt/media/image14.wmf" ContentType="image/x-wmf"/>
  <Override PartName="/ppt/media/image1.wmf" ContentType="image/x-wmf"/>
  <Override PartName="/ppt/media/image2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50.png" ContentType="image/png"/>
  <Override PartName="/ppt/media/image13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6.wmf" ContentType="image/x-wmf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E088-E7EC-4F6E-9C9C-54730A9B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73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FB3D-1BF4-41DB-9672-4668D1AC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739E-442C-4D71-809A-06B0243A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4D77-62ED-4993-8E69-D9E8697B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20E5-6392-44DA-A842-48794671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5F9-8D8C-43CD-9AC3-C7E2EA20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76E-B59B-4324-AFD6-70B6E4CA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88EA-4D1A-4385-BD56-4773A08C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828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AA1-0593-4470-8C5E-B08905B0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3C5A-E243-4163-A4C5-2044E744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89E4-0E15-46C8-8637-399E544F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842-473B-4EF2-A16F-8A1AD197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vantGar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800" y="6324120"/>
            <a:ext cx="3200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vantGar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vantGar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15BC-F993-430A-96AA-C53DFF352038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11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1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3.pn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Out-of-Order Execution Structure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riteback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Write result to register file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roadcast tag in order to wakeup waiting instruction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tice that the tag broadcast should happen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WO cycles 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 advance of the result production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We’ll revisit this point soon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servation Station Model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Used by Pentium Pro, PowerPC 604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-order buffer holds valu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naming points to re-order buffer entri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omasulo-lik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9153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vantGarde"/>
              </a:rPr>
              <a:t>Physical Register File vs. Reservation Station</a:t>
            </a:r>
            <a:endParaRPr b="0" lang="en-US" sz="2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hysical Register Fi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Values reside in the register fil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At writeback instructions broadcast the register nam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ervation Station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Values reside: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 the register file upon commi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n-speculativ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 reservation stations prior to commi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peculativ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Quantifying Complexit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ritical Path Delay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as a function of architectural parameter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inSize: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uction Window siz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W: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Issue Width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ull-custom Implementation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udy the critical path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model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Extrapolate how it will scale with “future” technologi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nam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ap Architectural registers to Physic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Eliminate False Dependenc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sses renamed instructions to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cheduler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Called 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2895480" y="1295280"/>
            <a:ext cx="83844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nput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W instruction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 to 2 x Input register nam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 to 1 x Output register nam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utput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2 x input physical register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1 x new output physical register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1 x previous physical register name for checkpointing 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dated rename tabl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uperscalar Issue complicates things a bi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One Instruction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123" name="Group 12" descr=""/>
          <p:cNvPicPr/>
          <p:nvPr/>
        </p:nvPicPr>
        <p:blipFill>
          <a:blip r:embed="rId1"/>
          <a:stretch/>
        </p:blipFill>
        <p:spPr>
          <a:xfrm>
            <a:off x="1481040" y="2193840"/>
            <a:ext cx="542880" cy="32371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"/>
          <p:cNvSpPr/>
          <p:nvPr/>
        </p:nvSpPr>
        <p:spPr>
          <a:xfrm>
            <a:off x="3505320" y="2133720"/>
            <a:ext cx="1523880" cy="3429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3505320" y="213372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3505320" y="510552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6"/>
          <p:cNvSpPr/>
          <p:nvPr/>
        </p:nvSpPr>
        <p:spPr>
          <a:xfrm>
            <a:off x="1905120" y="27432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7"/>
          <p:cNvSpPr/>
          <p:nvPr/>
        </p:nvSpPr>
        <p:spPr>
          <a:xfrm>
            <a:off x="1905120" y="38098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1905120" y="50292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Group 19" descr=""/>
          <p:cNvPicPr/>
          <p:nvPr/>
        </p:nvPicPr>
        <p:blipFill>
          <a:blip r:embed="rId2"/>
          <a:stretch/>
        </p:blipFill>
        <p:spPr>
          <a:xfrm>
            <a:off x="6284880" y="2266920"/>
            <a:ext cx="536760" cy="3238560"/>
          </a:xfrm>
          <a:prstGeom prst="rect">
            <a:avLst/>
          </a:prstGeom>
          <a:ln w="0">
            <a:noFill/>
          </a:ln>
        </p:spPr>
      </p:pic>
      <p:sp>
        <p:nvSpPr>
          <p:cNvPr id="131" name="Line 23"/>
          <p:cNvSpPr/>
          <p:nvPr/>
        </p:nvSpPr>
        <p:spPr>
          <a:xfrm>
            <a:off x="5029200" y="30481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5029200" y="3962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8"/>
          <p:cNvSpPr/>
          <p:nvPr/>
        </p:nvSpPr>
        <p:spPr>
          <a:xfrm>
            <a:off x="2514600" y="22860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9"/>
          <p:cNvSpPr/>
          <p:nvPr/>
        </p:nvSpPr>
        <p:spPr>
          <a:xfrm>
            <a:off x="1219320" y="1371600"/>
            <a:ext cx="25146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new reg from free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2514600" y="1752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31"/>
          <p:cNvSpPr/>
          <p:nvPr/>
        </p:nvSpPr>
        <p:spPr>
          <a:xfrm>
            <a:off x="609480" y="1219320"/>
            <a:ext cx="3200400" cy="167616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629640" y="182880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Writ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33"/>
          <p:cNvSpPr/>
          <p:nvPr/>
        </p:nvSpPr>
        <p:spPr>
          <a:xfrm>
            <a:off x="1066680" y="3429000"/>
            <a:ext cx="2667240" cy="8380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34"/>
          <p:cNvSpPr/>
          <p:nvPr/>
        </p:nvSpPr>
        <p:spPr>
          <a:xfrm>
            <a:off x="990720" y="4572000"/>
            <a:ext cx="2666880" cy="8380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1724040" y="50292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ad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1724040" y="3809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ad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37"/>
          <p:cNvSpPr/>
          <p:nvPr/>
        </p:nvSpPr>
        <p:spPr>
          <a:xfrm>
            <a:off x="2514600" y="32004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38"/>
          <p:cNvSpPr/>
          <p:nvPr/>
        </p:nvSpPr>
        <p:spPr>
          <a:xfrm>
            <a:off x="25146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39"/>
          <p:cNvSpPr/>
          <p:nvPr/>
        </p:nvSpPr>
        <p:spPr>
          <a:xfrm>
            <a:off x="2133720" y="2514600"/>
            <a:ext cx="1828800" cy="8380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0"/>
          <p:cNvSpPr/>
          <p:nvPr/>
        </p:nvSpPr>
        <p:spPr>
          <a:xfrm>
            <a:off x="2638440" y="28954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ad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1"/>
          <p:cNvSpPr/>
          <p:nvPr/>
        </p:nvSpPr>
        <p:spPr>
          <a:xfrm>
            <a:off x="2514600" y="19810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42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43"/>
          <p:cNvSpPr/>
          <p:nvPr/>
        </p:nvSpPr>
        <p:spPr>
          <a:xfrm>
            <a:off x="21337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44"/>
          <p:cNvSpPr/>
          <p:nvPr/>
        </p:nvSpPr>
        <p:spPr>
          <a:xfrm>
            <a:off x="762120" y="2438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45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6"/>
          <p:cNvSpPr/>
          <p:nvPr/>
        </p:nvSpPr>
        <p:spPr>
          <a:xfrm>
            <a:off x="6719040" y="2438280"/>
            <a:ext cx="238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For mispec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Two Instruction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56" name="Rectangle 8"/>
          <p:cNvSpPr/>
          <p:nvPr/>
        </p:nvSpPr>
        <p:spPr>
          <a:xfrm rot="5400000">
            <a:off x="5104800" y="1447560"/>
            <a:ext cx="1067040" cy="3962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44197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>
            <a:off x="39625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48769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18"/>
          <p:cNvGrpSpPr/>
          <p:nvPr/>
        </p:nvGrpSpPr>
        <p:grpSpPr>
          <a:xfrm>
            <a:off x="3429360" y="1447920"/>
            <a:ext cx="2284560" cy="380880"/>
            <a:chOff x="3429360" y="1447920"/>
            <a:chExt cx="2284560" cy="380880"/>
          </a:xfrm>
        </p:grpSpPr>
        <p:sp>
          <p:nvSpPr>
            <p:cNvPr id="161" name="Rectangle 14"/>
            <p:cNvSpPr/>
            <p:nvPr/>
          </p:nvSpPr>
          <p:spPr>
            <a:xfrm>
              <a:off x="34293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5"/>
            <p:cNvSpPr/>
            <p:nvPr/>
          </p:nvSpPr>
          <p:spPr>
            <a:xfrm>
              <a:off x="39999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6"/>
            <p:cNvSpPr/>
            <p:nvPr/>
          </p:nvSpPr>
          <p:spPr>
            <a:xfrm>
              <a:off x="457128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7"/>
            <p:cNvSpPr/>
            <p:nvPr/>
          </p:nvSpPr>
          <p:spPr>
            <a:xfrm>
              <a:off x="514260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Line 20"/>
          <p:cNvSpPr/>
          <p:nvPr/>
        </p:nvSpPr>
        <p:spPr>
          <a:xfrm>
            <a:off x="69343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64771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2"/>
          <p:cNvSpPr/>
          <p:nvPr/>
        </p:nvSpPr>
        <p:spPr>
          <a:xfrm>
            <a:off x="73915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23"/>
          <p:cNvGrpSpPr/>
          <p:nvPr/>
        </p:nvGrpSpPr>
        <p:grpSpPr>
          <a:xfrm>
            <a:off x="5943960" y="1447920"/>
            <a:ext cx="2284560" cy="380880"/>
            <a:chOff x="5943960" y="1447920"/>
            <a:chExt cx="2284560" cy="380880"/>
          </a:xfrm>
        </p:grpSpPr>
        <p:sp>
          <p:nvSpPr>
            <p:cNvPr id="169" name="Rectangle 24"/>
            <p:cNvSpPr/>
            <p:nvPr/>
          </p:nvSpPr>
          <p:spPr>
            <a:xfrm>
              <a:off x="59439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25"/>
            <p:cNvSpPr/>
            <p:nvPr/>
          </p:nvSpPr>
          <p:spPr>
            <a:xfrm>
              <a:off x="65145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26"/>
            <p:cNvSpPr/>
            <p:nvPr/>
          </p:nvSpPr>
          <p:spPr>
            <a:xfrm>
              <a:off x="708588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27"/>
            <p:cNvSpPr/>
            <p:nvPr/>
          </p:nvSpPr>
          <p:spPr>
            <a:xfrm>
              <a:off x="765720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Oval 28"/>
          <p:cNvSpPr/>
          <p:nvPr/>
        </p:nvSpPr>
        <p:spPr>
          <a:xfrm>
            <a:off x="1752480" y="18288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30"/>
          <p:cNvSpPr/>
          <p:nvPr/>
        </p:nvSpPr>
        <p:spPr>
          <a:xfrm flipH="1">
            <a:off x="2133720" y="1981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31"/>
          <p:cNvSpPr/>
          <p:nvPr/>
        </p:nvSpPr>
        <p:spPr>
          <a:xfrm>
            <a:off x="1981080" y="25146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2"/>
          <p:cNvSpPr/>
          <p:nvPr/>
        </p:nvSpPr>
        <p:spPr>
          <a:xfrm>
            <a:off x="2743200" y="198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3"/>
          <p:cNvSpPr/>
          <p:nvPr/>
        </p:nvSpPr>
        <p:spPr>
          <a:xfrm flipH="1">
            <a:off x="236232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4"/>
          <p:cNvSpPr/>
          <p:nvPr/>
        </p:nvSpPr>
        <p:spPr>
          <a:xfrm flipH="1">
            <a:off x="2133360" y="2133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5"/>
          <p:cNvSpPr/>
          <p:nvPr/>
        </p:nvSpPr>
        <p:spPr>
          <a:xfrm flipH="1">
            <a:off x="2286000" y="25909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6"/>
          <p:cNvSpPr/>
          <p:nvPr/>
        </p:nvSpPr>
        <p:spPr>
          <a:xfrm>
            <a:off x="6095880" y="4495680"/>
            <a:ext cx="533520" cy="304920"/>
          </a:xfrm>
          <a:custGeom>
            <a:avLst/>
            <a:gdLst>
              <a:gd name="textAreaLeft" fmla="*/ 110880 w 533520"/>
              <a:gd name="textAreaRight" fmla="*/ 422640 w 53352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7"/>
          <p:cNvSpPr/>
          <p:nvPr/>
        </p:nvSpPr>
        <p:spPr>
          <a:xfrm>
            <a:off x="647712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8"/>
          <p:cNvSpPr/>
          <p:nvPr/>
        </p:nvSpPr>
        <p:spPr>
          <a:xfrm>
            <a:off x="6629400" y="4724280"/>
            <a:ext cx="533520" cy="304920"/>
          </a:xfrm>
          <a:custGeom>
            <a:avLst/>
            <a:gdLst>
              <a:gd name="textAreaLeft" fmla="*/ 110880 w 533520"/>
              <a:gd name="textAreaRight" fmla="*/ 422640 w 53352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9"/>
          <p:cNvSpPr/>
          <p:nvPr/>
        </p:nvSpPr>
        <p:spPr>
          <a:xfrm>
            <a:off x="70102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0"/>
          <p:cNvSpPr/>
          <p:nvPr/>
        </p:nvSpPr>
        <p:spPr>
          <a:xfrm>
            <a:off x="541008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5410080" y="4267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678168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3"/>
          <p:cNvSpPr/>
          <p:nvPr/>
        </p:nvSpPr>
        <p:spPr>
          <a:xfrm>
            <a:off x="62485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44"/>
          <p:cNvSpPr/>
          <p:nvPr/>
        </p:nvSpPr>
        <p:spPr>
          <a:xfrm>
            <a:off x="640080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45"/>
          <p:cNvSpPr/>
          <p:nvPr/>
        </p:nvSpPr>
        <p:spPr>
          <a:xfrm>
            <a:off x="69343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46"/>
          <p:cNvSpPr/>
          <p:nvPr/>
        </p:nvSpPr>
        <p:spPr>
          <a:xfrm>
            <a:off x="2133720" y="2895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47"/>
          <p:cNvSpPr/>
          <p:nvPr/>
        </p:nvSpPr>
        <p:spPr>
          <a:xfrm>
            <a:off x="2133720" y="4876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48"/>
          <p:cNvSpPr/>
          <p:nvPr/>
        </p:nvSpPr>
        <p:spPr>
          <a:xfrm>
            <a:off x="2133720" y="2895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49"/>
          <p:cNvSpPr/>
          <p:nvPr/>
        </p:nvSpPr>
        <p:spPr>
          <a:xfrm>
            <a:off x="2133720" y="4876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50"/>
          <p:cNvSpPr/>
          <p:nvPr/>
        </p:nvSpPr>
        <p:spPr>
          <a:xfrm>
            <a:off x="1905120" y="2209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51"/>
          <p:cNvSpPr/>
          <p:nvPr/>
        </p:nvSpPr>
        <p:spPr>
          <a:xfrm>
            <a:off x="1905120" y="46483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2"/>
          <p:cNvSpPr/>
          <p:nvPr/>
        </p:nvSpPr>
        <p:spPr>
          <a:xfrm>
            <a:off x="7467480" y="3962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3"/>
          <p:cNvSpPr/>
          <p:nvPr/>
        </p:nvSpPr>
        <p:spPr>
          <a:xfrm>
            <a:off x="7238880" y="4267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54"/>
          <p:cNvSpPr/>
          <p:nvPr/>
        </p:nvSpPr>
        <p:spPr>
          <a:xfrm>
            <a:off x="7391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55"/>
          <p:cNvSpPr/>
          <p:nvPr/>
        </p:nvSpPr>
        <p:spPr>
          <a:xfrm>
            <a:off x="7162920" y="4952880"/>
            <a:ext cx="533160" cy="304920"/>
          </a:xfrm>
          <a:custGeom>
            <a:avLst/>
            <a:gdLst>
              <a:gd name="textAreaLeft" fmla="*/ 110880 w 533160"/>
              <a:gd name="textAreaRight" fmla="*/ 422280 w 53316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56"/>
          <p:cNvSpPr/>
          <p:nvPr/>
        </p:nvSpPr>
        <p:spPr>
          <a:xfrm>
            <a:off x="2666880" y="28954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57"/>
          <p:cNvSpPr/>
          <p:nvPr/>
        </p:nvSpPr>
        <p:spPr>
          <a:xfrm>
            <a:off x="3429000" y="2133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58"/>
          <p:cNvSpPr/>
          <p:nvPr/>
        </p:nvSpPr>
        <p:spPr>
          <a:xfrm flipH="1">
            <a:off x="30481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9"/>
          <p:cNvSpPr/>
          <p:nvPr/>
        </p:nvSpPr>
        <p:spPr>
          <a:xfrm flipH="1">
            <a:off x="2971440" y="23623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0"/>
          <p:cNvSpPr/>
          <p:nvPr/>
        </p:nvSpPr>
        <p:spPr>
          <a:xfrm>
            <a:off x="297180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1"/>
          <p:cNvSpPr/>
          <p:nvPr/>
        </p:nvSpPr>
        <p:spPr>
          <a:xfrm>
            <a:off x="2895480" y="518148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2"/>
          <p:cNvSpPr/>
          <p:nvPr/>
        </p:nvSpPr>
        <p:spPr>
          <a:xfrm>
            <a:off x="2895480" y="3276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63"/>
          <p:cNvSpPr/>
          <p:nvPr/>
        </p:nvSpPr>
        <p:spPr>
          <a:xfrm>
            <a:off x="3886200" y="396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64"/>
          <p:cNvSpPr/>
          <p:nvPr/>
        </p:nvSpPr>
        <p:spPr>
          <a:xfrm>
            <a:off x="4419720" y="396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65"/>
          <p:cNvSpPr/>
          <p:nvPr/>
        </p:nvSpPr>
        <p:spPr>
          <a:xfrm>
            <a:off x="4876920" y="396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66"/>
          <p:cNvSpPr/>
          <p:nvPr/>
        </p:nvSpPr>
        <p:spPr>
          <a:xfrm>
            <a:off x="800100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67"/>
          <p:cNvGrpSpPr/>
          <p:nvPr/>
        </p:nvGrpSpPr>
        <p:grpSpPr>
          <a:xfrm>
            <a:off x="3505320" y="5486400"/>
            <a:ext cx="2283840" cy="380880"/>
            <a:chOff x="3505320" y="5486400"/>
            <a:chExt cx="2283840" cy="380880"/>
          </a:xfrm>
        </p:grpSpPr>
        <p:sp>
          <p:nvSpPr>
            <p:cNvPr id="212" name="Rectangle 68"/>
            <p:cNvSpPr/>
            <p:nvPr/>
          </p:nvSpPr>
          <p:spPr>
            <a:xfrm>
              <a:off x="350532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69"/>
            <p:cNvSpPr/>
            <p:nvPr/>
          </p:nvSpPr>
          <p:spPr>
            <a:xfrm>
              <a:off x="407556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70"/>
            <p:cNvSpPr/>
            <p:nvPr/>
          </p:nvSpPr>
          <p:spPr>
            <a:xfrm>
              <a:off x="4647240" y="548640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Old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71"/>
            <p:cNvSpPr/>
            <p:nvPr/>
          </p:nvSpPr>
          <p:spPr>
            <a:xfrm>
              <a:off x="521820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72"/>
          <p:cNvGrpSpPr/>
          <p:nvPr/>
        </p:nvGrpSpPr>
        <p:grpSpPr>
          <a:xfrm>
            <a:off x="6019920" y="5486400"/>
            <a:ext cx="2283840" cy="380880"/>
            <a:chOff x="6019920" y="5486400"/>
            <a:chExt cx="2283840" cy="380880"/>
          </a:xfrm>
        </p:grpSpPr>
        <p:sp>
          <p:nvSpPr>
            <p:cNvPr id="217" name="Rectangle 73"/>
            <p:cNvSpPr/>
            <p:nvPr/>
          </p:nvSpPr>
          <p:spPr>
            <a:xfrm>
              <a:off x="601992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74"/>
            <p:cNvSpPr/>
            <p:nvPr/>
          </p:nvSpPr>
          <p:spPr>
            <a:xfrm>
              <a:off x="659016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75"/>
            <p:cNvSpPr/>
            <p:nvPr/>
          </p:nvSpPr>
          <p:spPr>
            <a:xfrm>
              <a:off x="7161840" y="548640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Ol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76"/>
            <p:cNvSpPr/>
            <p:nvPr/>
          </p:nvSpPr>
          <p:spPr>
            <a:xfrm>
              <a:off x="773280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Freeform 82"/>
          <p:cNvSpPr/>
          <p:nvPr/>
        </p:nvSpPr>
        <p:spPr>
          <a:xfrm>
            <a:off x="1063800" y="1442880"/>
            <a:ext cx="7138800" cy="3943440"/>
          </a:xfrm>
          <a:custGeom>
            <a:avLst/>
            <a:gdLst/>
            <a:ahLst/>
            <a:rect l="l" t="t" r="r" b="b"/>
            <a:pathLst>
              <a:path w="4497" h="2484">
                <a:moveTo>
                  <a:pt x="947" y="42"/>
                </a:moveTo>
                <a:cubicBezTo>
                  <a:pt x="885" y="36"/>
                  <a:pt x="906" y="35"/>
                  <a:pt x="862" y="21"/>
                </a:cubicBezTo>
                <a:cubicBezTo>
                  <a:pt x="840" y="5"/>
                  <a:pt x="821" y="4"/>
                  <a:pt x="794" y="0"/>
                </a:cubicBezTo>
                <a:cubicBezTo>
                  <a:pt x="662" y="4"/>
                  <a:pt x="667" y="2"/>
                  <a:pt x="582" y="21"/>
                </a:cubicBezTo>
                <a:cubicBezTo>
                  <a:pt x="549" y="38"/>
                  <a:pt x="513" y="54"/>
                  <a:pt x="477" y="63"/>
                </a:cubicBezTo>
                <a:cubicBezTo>
                  <a:pt x="417" y="95"/>
                  <a:pt x="355" y="122"/>
                  <a:pt x="297" y="158"/>
                </a:cubicBezTo>
                <a:cubicBezTo>
                  <a:pt x="275" y="172"/>
                  <a:pt x="262" y="189"/>
                  <a:pt x="239" y="201"/>
                </a:cubicBezTo>
                <a:cubicBezTo>
                  <a:pt x="232" y="211"/>
                  <a:pt x="210" y="238"/>
                  <a:pt x="202" y="254"/>
                </a:cubicBezTo>
                <a:cubicBezTo>
                  <a:pt x="195" y="268"/>
                  <a:pt x="188" y="282"/>
                  <a:pt x="181" y="296"/>
                </a:cubicBezTo>
                <a:cubicBezTo>
                  <a:pt x="177" y="303"/>
                  <a:pt x="170" y="317"/>
                  <a:pt x="170" y="317"/>
                </a:cubicBezTo>
                <a:cubicBezTo>
                  <a:pt x="168" y="324"/>
                  <a:pt x="168" y="331"/>
                  <a:pt x="165" y="338"/>
                </a:cubicBezTo>
                <a:cubicBezTo>
                  <a:pt x="162" y="345"/>
                  <a:pt x="156" y="351"/>
                  <a:pt x="154" y="359"/>
                </a:cubicBezTo>
                <a:cubicBezTo>
                  <a:pt x="149" y="373"/>
                  <a:pt x="144" y="402"/>
                  <a:pt x="144" y="402"/>
                </a:cubicBezTo>
                <a:cubicBezTo>
                  <a:pt x="133" y="509"/>
                  <a:pt x="102" y="614"/>
                  <a:pt x="80" y="719"/>
                </a:cubicBezTo>
                <a:cubicBezTo>
                  <a:pt x="69" y="773"/>
                  <a:pt x="67" y="828"/>
                  <a:pt x="54" y="882"/>
                </a:cubicBezTo>
                <a:cubicBezTo>
                  <a:pt x="50" y="916"/>
                  <a:pt x="41" y="949"/>
                  <a:pt x="38" y="983"/>
                </a:cubicBezTo>
                <a:cubicBezTo>
                  <a:pt x="34" y="1022"/>
                  <a:pt x="28" y="1099"/>
                  <a:pt x="28" y="1099"/>
                </a:cubicBezTo>
                <a:cubicBezTo>
                  <a:pt x="30" y="1257"/>
                  <a:pt x="0" y="1506"/>
                  <a:pt x="86" y="1670"/>
                </a:cubicBezTo>
                <a:cubicBezTo>
                  <a:pt x="99" y="1725"/>
                  <a:pt x="135" y="1777"/>
                  <a:pt x="160" y="1828"/>
                </a:cubicBezTo>
                <a:cubicBezTo>
                  <a:pt x="260" y="2031"/>
                  <a:pt x="405" y="2231"/>
                  <a:pt x="614" y="2330"/>
                </a:cubicBezTo>
                <a:cubicBezTo>
                  <a:pt x="635" y="2351"/>
                  <a:pt x="664" y="2358"/>
                  <a:pt x="693" y="2367"/>
                </a:cubicBezTo>
                <a:cubicBezTo>
                  <a:pt x="719" y="2375"/>
                  <a:pt x="740" y="2388"/>
                  <a:pt x="767" y="2394"/>
                </a:cubicBezTo>
                <a:cubicBezTo>
                  <a:pt x="828" y="2409"/>
                  <a:pt x="883" y="2412"/>
                  <a:pt x="947" y="2415"/>
                </a:cubicBezTo>
                <a:cubicBezTo>
                  <a:pt x="1011" y="2423"/>
                  <a:pt x="1074" y="2428"/>
                  <a:pt x="1137" y="2436"/>
                </a:cubicBezTo>
                <a:cubicBezTo>
                  <a:pt x="1167" y="2440"/>
                  <a:pt x="1227" y="2447"/>
                  <a:pt x="1227" y="2447"/>
                </a:cubicBezTo>
                <a:cubicBezTo>
                  <a:pt x="1271" y="2445"/>
                  <a:pt x="1315" y="2441"/>
                  <a:pt x="1359" y="2441"/>
                </a:cubicBezTo>
                <a:cubicBezTo>
                  <a:pt x="1417" y="2441"/>
                  <a:pt x="1476" y="2448"/>
                  <a:pt x="1534" y="2447"/>
                </a:cubicBezTo>
                <a:cubicBezTo>
                  <a:pt x="1566" y="2446"/>
                  <a:pt x="1629" y="2436"/>
                  <a:pt x="1629" y="2436"/>
                </a:cubicBezTo>
                <a:cubicBezTo>
                  <a:pt x="1684" y="2423"/>
                  <a:pt x="1726" y="2423"/>
                  <a:pt x="1787" y="2420"/>
                </a:cubicBezTo>
                <a:cubicBezTo>
                  <a:pt x="1896" y="2435"/>
                  <a:pt x="2010" y="2436"/>
                  <a:pt x="2120" y="2441"/>
                </a:cubicBezTo>
                <a:cubicBezTo>
                  <a:pt x="2148" y="2447"/>
                  <a:pt x="2176" y="2453"/>
                  <a:pt x="2205" y="2457"/>
                </a:cubicBezTo>
                <a:cubicBezTo>
                  <a:pt x="2288" y="2446"/>
                  <a:pt x="2370" y="2440"/>
                  <a:pt x="2453" y="2436"/>
                </a:cubicBezTo>
                <a:cubicBezTo>
                  <a:pt x="2582" y="2441"/>
                  <a:pt x="2705" y="2434"/>
                  <a:pt x="2834" y="2431"/>
                </a:cubicBezTo>
                <a:cubicBezTo>
                  <a:pt x="2957" y="2422"/>
                  <a:pt x="3080" y="2416"/>
                  <a:pt x="3203" y="2410"/>
                </a:cubicBezTo>
                <a:cubicBezTo>
                  <a:pt x="3368" y="2416"/>
                  <a:pt x="3522" y="2440"/>
                  <a:pt x="3684" y="2462"/>
                </a:cubicBezTo>
                <a:cubicBezTo>
                  <a:pt x="3738" y="2477"/>
                  <a:pt x="3797" y="2479"/>
                  <a:pt x="3853" y="2484"/>
                </a:cubicBezTo>
                <a:cubicBezTo>
                  <a:pt x="3924" y="2478"/>
                  <a:pt x="3994" y="2475"/>
                  <a:pt x="4065" y="2468"/>
                </a:cubicBezTo>
                <a:cubicBezTo>
                  <a:pt x="4089" y="2461"/>
                  <a:pt x="4139" y="2452"/>
                  <a:pt x="4139" y="2452"/>
                </a:cubicBezTo>
                <a:cubicBezTo>
                  <a:pt x="4168" y="2437"/>
                  <a:pt x="4202" y="2426"/>
                  <a:pt x="4234" y="2420"/>
                </a:cubicBezTo>
                <a:cubicBezTo>
                  <a:pt x="4261" y="2407"/>
                  <a:pt x="4290" y="2396"/>
                  <a:pt x="4318" y="2388"/>
                </a:cubicBezTo>
                <a:cubicBezTo>
                  <a:pt x="4361" y="2361"/>
                  <a:pt x="4399" y="2334"/>
                  <a:pt x="4435" y="2299"/>
                </a:cubicBezTo>
                <a:cubicBezTo>
                  <a:pt x="4457" y="2277"/>
                  <a:pt x="4466" y="2244"/>
                  <a:pt x="4482" y="2219"/>
                </a:cubicBezTo>
                <a:cubicBezTo>
                  <a:pt x="4497" y="2141"/>
                  <a:pt x="4483" y="2011"/>
                  <a:pt x="4408" y="1960"/>
                </a:cubicBezTo>
                <a:cubicBezTo>
                  <a:pt x="4379" y="1916"/>
                  <a:pt x="4312" y="1888"/>
                  <a:pt x="4266" y="1865"/>
                </a:cubicBezTo>
                <a:cubicBezTo>
                  <a:pt x="4237" y="1850"/>
                  <a:pt x="4214" y="1831"/>
                  <a:pt x="4181" y="1823"/>
                </a:cubicBezTo>
                <a:cubicBezTo>
                  <a:pt x="4128" y="1795"/>
                  <a:pt x="4068" y="1792"/>
                  <a:pt x="4012" y="1775"/>
                </a:cubicBezTo>
                <a:cubicBezTo>
                  <a:pt x="3933" y="1751"/>
                  <a:pt x="3851" y="1732"/>
                  <a:pt x="3769" y="1723"/>
                </a:cubicBezTo>
                <a:cubicBezTo>
                  <a:pt x="3726" y="1711"/>
                  <a:pt x="3681" y="1710"/>
                  <a:pt x="3637" y="1707"/>
                </a:cubicBezTo>
                <a:cubicBezTo>
                  <a:pt x="3559" y="1709"/>
                  <a:pt x="3482" y="1709"/>
                  <a:pt x="3404" y="1712"/>
                </a:cubicBezTo>
                <a:cubicBezTo>
                  <a:pt x="3346" y="1714"/>
                  <a:pt x="3288" y="1743"/>
                  <a:pt x="3230" y="1754"/>
                </a:cubicBezTo>
                <a:cubicBezTo>
                  <a:pt x="3158" y="1783"/>
                  <a:pt x="3078" y="1795"/>
                  <a:pt x="3003" y="1818"/>
                </a:cubicBezTo>
                <a:cubicBezTo>
                  <a:pt x="2978" y="1826"/>
                  <a:pt x="2954" y="1837"/>
                  <a:pt x="2929" y="1844"/>
                </a:cubicBezTo>
                <a:cubicBezTo>
                  <a:pt x="2913" y="1848"/>
                  <a:pt x="2881" y="1855"/>
                  <a:pt x="2881" y="1855"/>
                </a:cubicBezTo>
                <a:cubicBezTo>
                  <a:pt x="2841" y="1874"/>
                  <a:pt x="2878" y="1859"/>
                  <a:pt x="2812" y="1871"/>
                </a:cubicBezTo>
                <a:cubicBezTo>
                  <a:pt x="2722" y="1887"/>
                  <a:pt x="2635" y="1901"/>
                  <a:pt x="2543" y="1908"/>
                </a:cubicBezTo>
                <a:cubicBezTo>
                  <a:pt x="2387" y="1903"/>
                  <a:pt x="2228" y="1905"/>
                  <a:pt x="2073" y="1886"/>
                </a:cubicBezTo>
                <a:cubicBezTo>
                  <a:pt x="1976" y="1874"/>
                  <a:pt x="1888" y="1838"/>
                  <a:pt x="1793" y="1823"/>
                </a:cubicBezTo>
                <a:cubicBezTo>
                  <a:pt x="1747" y="1804"/>
                  <a:pt x="1701" y="1782"/>
                  <a:pt x="1655" y="1765"/>
                </a:cubicBezTo>
                <a:cubicBezTo>
                  <a:pt x="1616" y="1735"/>
                  <a:pt x="1563" y="1705"/>
                  <a:pt x="1528" y="1670"/>
                </a:cubicBezTo>
                <a:cubicBezTo>
                  <a:pt x="1480" y="1622"/>
                  <a:pt x="1448" y="1571"/>
                  <a:pt x="1417" y="1511"/>
                </a:cubicBezTo>
                <a:cubicBezTo>
                  <a:pt x="1414" y="1497"/>
                  <a:pt x="1410" y="1483"/>
                  <a:pt x="1407" y="1469"/>
                </a:cubicBezTo>
                <a:cubicBezTo>
                  <a:pt x="1405" y="1460"/>
                  <a:pt x="1401" y="1443"/>
                  <a:pt x="1401" y="1443"/>
                </a:cubicBezTo>
                <a:cubicBezTo>
                  <a:pt x="1393" y="1335"/>
                  <a:pt x="1412" y="1244"/>
                  <a:pt x="1444" y="1141"/>
                </a:cubicBezTo>
                <a:cubicBezTo>
                  <a:pt x="1454" y="1107"/>
                  <a:pt x="1468" y="1078"/>
                  <a:pt x="1481" y="1046"/>
                </a:cubicBezTo>
                <a:cubicBezTo>
                  <a:pt x="1489" y="1025"/>
                  <a:pt x="1502" y="983"/>
                  <a:pt x="1502" y="983"/>
                </a:cubicBezTo>
                <a:cubicBezTo>
                  <a:pt x="1507" y="953"/>
                  <a:pt x="1517" y="928"/>
                  <a:pt x="1523" y="898"/>
                </a:cubicBezTo>
                <a:cubicBezTo>
                  <a:pt x="1532" y="794"/>
                  <a:pt x="1543" y="683"/>
                  <a:pt x="1512" y="581"/>
                </a:cubicBezTo>
                <a:cubicBezTo>
                  <a:pt x="1468" y="435"/>
                  <a:pt x="1327" y="288"/>
                  <a:pt x="1195" y="217"/>
                </a:cubicBezTo>
                <a:cubicBezTo>
                  <a:pt x="1098" y="165"/>
                  <a:pt x="991" y="127"/>
                  <a:pt x="884" y="100"/>
                </a:cubicBezTo>
                <a:cubicBezTo>
                  <a:pt x="866" y="95"/>
                  <a:pt x="844" y="86"/>
                  <a:pt x="825" y="84"/>
                </a:cubicBezTo>
                <a:cubicBezTo>
                  <a:pt x="790" y="80"/>
                  <a:pt x="720" y="74"/>
                  <a:pt x="720" y="74"/>
                </a:cubicBezTo>
                <a:cubicBezTo>
                  <a:pt x="713" y="72"/>
                  <a:pt x="699" y="69"/>
                  <a:pt x="699" y="69"/>
                </a:cubicBezTo>
                <a:cubicBezTo>
                  <a:pt x="699" y="69"/>
                  <a:pt x="947" y="42"/>
                  <a:pt x="947" y="42"/>
                </a:cubicBezTo>
                <a:close/>
              </a:path>
            </a:pathLst>
          </a:custGeom>
          <a:solidFill>
            <a:srgbClr val="ffb481">
              <a:alpha val="2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83"/>
          <p:cNvSpPr/>
          <p:nvPr/>
        </p:nvSpPr>
        <p:spPr>
          <a:xfrm>
            <a:off x="189360" y="1295280"/>
            <a:ext cx="315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Cross Bun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Dependency Check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More Instruction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cy Checking logic for instruction </a:t>
            </a:r>
            <a:r>
              <a:rPr b="1" i="1" lang="en-US" sz="2400" spc="-1" strike="noStrike">
                <a:solidFill>
                  <a:srgbClr val="000000"/>
                </a:solidFill>
                <a:latin typeface="AvantGarde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must match against all preceding destination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f there are multiple matches it must enforce priorit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Pick the one closest to this instruction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AT: SRAM Implementation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33526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6576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39625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42670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45720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48769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33526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36576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39625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42670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45720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8769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33526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36576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39625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9"/>
          <p:cNvSpPr/>
          <p:nvPr/>
        </p:nvSpPr>
        <p:spPr>
          <a:xfrm>
            <a:off x="42670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0"/>
          <p:cNvSpPr/>
          <p:nvPr/>
        </p:nvSpPr>
        <p:spPr>
          <a:xfrm>
            <a:off x="45720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48769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22"/>
          <p:cNvSpPr/>
          <p:nvPr/>
        </p:nvSpPr>
        <p:spPr>
          <a:xfrm rot="5400000">
            <a:off x="1866240" y="2871720"/>
            <a:ext cx="1371600" cy="22860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23"/>
          <p:cNvSpPr/>
          <p:nvPr/>
        </p:nvSpPr>
        <p:spPr>
          <a:xfrm>
            <a:off x="1371600" y="29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24"/>
          <p:cNvSpPr/>
          <p:nvPr/>
        </p:nvSpPr>
        <p:spPr>
          <a:xfrm>
            <a:off x="2666880" y="237636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25"/>
          <p:cNvSpPr/>
          <p:nvPr/>
        </p:nvSpPr>
        <p:spPr>
          <a:xfrm>
            <a:off x="2666880" y="26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2666880" y="3367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1951200" y="191916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8"/>
          <p:cNvSpPr/>
          <p:nvPr/>
        </p:nvSpPr>
        <p:spPr>
          <a:xfrm>
            <a:off x="342900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358128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5276160" y="17668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RAM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31"/>
          <p:cNvSpPr/>
          <p:nvPr/>
        </p:nvSpPr>
        <p:spPr>
          <a:xfrm flipH="1">
            <a:off x="5028840" y="214776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2"/>
          <p:cNvSpPr/>
          <p:nvPr/>
        </p:nvSpPr>
        <p:spPr>
          <a:xfrm>
            <a:off x="3166920" y="137160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bit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33"/>
          <p:cNvSpPr/>
          <p:nvPr/>
        </p:nvSpPr>
        <p:spPr>
          <a:xfrm>
            <a:off x="3276720" y="4357800"/>
            <a:ext cx="380880" cy="304560"/>
          </a:xfrm>
          <a:custGeom>
            <a:avLst/>
            <a:gdLst>
              <a:gd name="textAreaLeft" fmla="*/ 79200 w 380880"/>
              <a:gd name="textAreaRight" fmla="*/ 301680 w 380880"/>
              <a:gd name="textAreaTop" fmla="*/ 63360 h 304560"/>
              <a:gd name="textAreaBottom" fmla="*/ 2412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4"/>
          <p:cNvSpPr/>
          <p:nvPr/>
        </p:nvSpPr>
        <p:spPr>
          <a:xfrm>
            <a:off x="3572640" y="43578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ense 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5"/>
          <p:cNvSpPr/>
          <p:nvPr/>
        </p:nvSpPr>
        <p:spPr>
          <a:xfrm>
            <a:off x="1089720" y="2514600"/>
            <a:ext cx="115452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Arch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36"/>
          <p:cNvSpPr/>
          <p:nvPr/>
        </p:nvSpPr>
        <p:spPr>
          <a:xfrm>
            <a:off x="3505320" y="4662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7"/>
          <p:cNvSpPr/>
          <p:nvPr/>
        </p:nvSpPr>
        <p:spPr>
          <a:xfrm>
            <a:off x="3162240" y="5119560"/>
            <a:ext cx="116208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Phys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38"/>
          <p:cNvSpPr/>
          <p:nvPr/>
        </p:nvSpPr>
        <p:spPr>
          <a:xfrm>
            <a:off x="6934320" y="228600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9"/>
          <p:cNvSpPr/>
          <p:nvPr/>
        </p:nvSpPr>
        <p:spPr>
          <a:xfrm>
            <a:off x="7074720" y="268272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#ARCH RE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0"/>
          <p:cNvSpPr/>
          <p:nvPr/>
        </p:nvSpPr>
        <p:spPr>
          <a:xfrm>
            <a:off x="3352680" y="388620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1"/>
          <p:cNvSpPr/>
          <p:nvPr/>
        </p:nvSpPr>
        <p:spPr>
          <a:xfrm>
            <a:off x="5157720" y="3902040"/>
            <a:ext cx="20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lg(#PHYS RE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MIPS R10000-Like Design 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ased on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Complexity-Effective Superscalar Processor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. Palacharla, N. Jouppi and J. E. Smith, ISCA 97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RAM RAT cell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501040" cy="4900680"/>
          </a:xfrm>
          <a:prstGeom prst="rect">
            <a:avLst/>
          </a:prstGeom>
          <a:ln w="0">
            <a:noFill/>
          </a:ln>
        </p:spPr>
      </p:pic>
      <p:sp>
        <p:nvSpPr>
          <p:cNvPr id="273" name="Oval 5"/>
          <p:cNvSpPr/>
          <p:nvPr/>
        </p:nvSpPr>
        <p:spPr>
          <a:xfrm>
            <a:off x="4038480" y="3733920"/>
            <a:ext cx="914400" cy="167616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6"/>
          <p:cNvSpPr/>
          <p:nvPr/>
        </p:nvSpPr>
        <p:spPr>
          <a:xfrm>
            <a:off x="685800" y="4343400"/>
            <a:ext cx="609480" cy="1676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7543800" y="4114800"/>
            <a:ext cx="609480" cy="1676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8"/>
          <p:cNvSpPr/>
          <p:nvPr/>
        </p:nvSpPr>
        <p:spPr>
          <a:xfrm>
            <a:off x="152280" y="3124080"/>
            <a:ext cx="1295640" cy="533520"/>
          </a:xfrm>
          <a:prstGeom prst="ellipse">
            <a:avLst/>
          </a:prstGeom>
          <a:noFill/>
          <a:ln cap="rnd" w="57240">
            <a:solidFill>
              <a:srgbClr val="66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590920" y="3124080"/>
            <a:ext cx="1295280" cy="533520"/>
          </a:xfrm>
          <a:prstGeom prst="ellipse">
            <a:avLst/>
          </a:prstGeom>
          <a:noFill/>
          <a:ln cap="rnd" w="57240">
            <a:solidFill>
              <a:srgbClr val="66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0"/>
          <p:cNvSpPr/>
          <p:nvPr/>
        </p:nvSpPr>
        <p:spPr>
          <a:xfrm>
            <a:off x="7315200" y="3048120"/>
            <a:ext cx="1295280" cy="533160"/>
          </a:xfrm>
          <a:prstGeom prst="ellipse">
            <a:avLst/>
          </a:prstGeom>
          <a:noFill/>
          <a:ln cap="rnd" w="57240">
            <a:solidFill>
              <a:srgbClr val="66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AT: CAM Implementation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33526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36576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39625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42670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45720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48769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33526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36576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39625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42670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45720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48769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6"/>
          <p:cNvSpPr/>
          <p:nvPr/>
        </p:nvSpPr>
        <p:spPr>
          <a:xfrm>
            <a:off x="33526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36576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39625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9"/>
          <p:cNvSpPr/>
          <p:nvPr/>
        </p:nvSpPr>
        <p:spPr>
          <a:xfrm>
            <a:off x="42670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45720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48769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22"/>
          <p:cNvSpPr/>
          <p:nvPr/>
        </p:nvSpPr>
        <p:spPr>
          <a:xfrm rot="5400000">
            <a:off x="1866240" y="2871720"/>
            <a:ext cx="1371600" cy="22860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3"/>
          <p:cNvSpPr/>
          <p:nvPr/>
        </p:nvSpPr>
        <p:spPr>
          <a:xfrm>
            <a:off x="1371600" y="28954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4"/>
          <p:cNvSpPr/>
          <p:nvPr/>
        </p:nvSpPr>
        <p:spPr>
          <a:xfrm>
            <a:off x="2666880" y="23623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5"/>
          <p:cNvSpPr/>
          <p:nvPr/>
        </p:nvSpPr>
        <p:spPr>
          <a:xfrm>
            <a:off x="2666880" y="26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6"/>
          <p:cNvSpPr/>
          <p:nvPr/>
        </p:nvSpPr>
        <p:spPr>
          <a:xfrm>
            <a:off x="2666880" y="3367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1951200" y="191916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8"/>
          <p:cNvSpPr/>
          <p:nvPr/>
        </p:nvSpPr>
        <p:spPr>
          <a:xfrm>
            <a:off x="342900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9"/>
          <p:cNvSpPr/>
          <p:nvPr/>
        </p:nvSpPr>
        <p:spPr>
          <a:xfrm>
            <a:off x="358128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0"/>
          <p:cNvSpPr/>
          <p:nvPr/>
        </p:nvSpPr>
        <p:spPr>
          <a:xfrm>
            <a:off x="4699080" y="137160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CAM 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1"/>
          <p:cNvSpPr/>
          <p:nvPr/>
        </p:nvSpPr>
        <p:spPr>
          <a:xfrm flipH="1">
            <a:off x="5028840" y="18288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5"/>
          <p:cNvSpPr/>
          <p:nvPr/>
        </p:nvSpPr>
        <p:spPr>
          <a:xfrm>
            <a:off x="2994840" y="1447920"/>
            <a:ext cx="115452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Arch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7"/>
          <p:cNvSpPr/>
          <p:nvPr/>
        </p:nvSpPr>
        <p:spPr>
          <a:xfrm>
            <a:off x="723960" y="2438280"/>
            <a:ext cx="116208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Phys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8"/>
          <p:cNvSpPr/>
          <p:nvPr/>
        </p:nvSpPr>
        <p:spPr>
          <a:xfrm>
            <a:off x="6934320" y="228600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9"/>
          <p:cNvSpPr/>
          <p:nvPr/>
        </p:nvSpPr>
        <p:spPr>
          <a:xfrm>
            <a:off x="7082640" y="268272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#PHYS RE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40"/>
          <p:cNvSpPr/>
          <p:nvPr/>
        </p:nvSpPr>
        <p:spPr>
          <a:xfrm>
            <a:off x="3352680" y="388620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1"/>
          <p:cNvSpPr/>
          <p:nvPr/>
        </p:nvSpPr>
        <p:spPr>
          <a:xfrm>
            <a:off x="5150160" y="390204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lg(#ARCH RE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42"/>
          <p:cNvSpPr/>
          <p:nvPr/>
        </p:nvSpPr>
        <p:spPr>
          <a:xfrm>
            <a:off x="5181480" y="2286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3"/>
          <p:cNvSpPr/>
          <p:nvPr/>
        </p:nvSpPr>
        <p:spPr>
          <a:xfrm>
            <a:off x="5181480" y="25909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44"/>
          <p:cNvSpPr/>
          <p:nvPr/>
        </p:nvSpPr>
        <p:spPr>
          <a:xfrm>
            <a:off x="5181480" y="32767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45"/>
          <p:cNvSpPr/>
          <p:nvPr/>
        </p:nvSpPr>
        <p:spPr>
          <a:xfrm flipH="1">
            <a:off x="5410080" y="20574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6"/>
          <p:cNvSpPr/>
          <p:nvPr/>
        </p:nvSpPr>
        <p:spPr>
          <a:xfrm>
            <a:off x="5708520" y="175248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Active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ne CAM per physical register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ctive bit indicates the current map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ew version by setting active bi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CAM Cell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2057400" y="1371600"/>
          <a:ext cx="518148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51814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RAM vs. CAM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RAM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Arch reg row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g(phy reg) col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RAM read/writ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AM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Phy reg row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g(arch reg) col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AM match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date: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Reset previous valid bit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t current valid bit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Wakeup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structions check whether they become ready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From Writeback: physical register nam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elect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Amongst the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ady 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lect those to execut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tructural hazard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3886200" y="1295280"/>
            <a:ext cx="121932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1 - Wakeup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rcRect l="0" t="0" r="1637" b="0"/>
          <a:stretch/>
        </p:blipFill>
        <p:spPr>
          <a:xfrm>
            <a:off x="1219320" y="11430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23"/>
          <p:cNvGrpSpPr/>
          <p:nvPr/>
        </p:nvGrpSpPr>
        <p:grpSpPr>
          <a:xfrm>
            <a:off x="76320" y="838080"/>
            <a:ext cx="8462880" cy="5461200"/>
            <a:chOff x="76320" y="838080"/>
            <a:chExt cx="8462880" cy="5461200"/>
          </a:xfrm>
        </p:grpSpPr>
        <p:pic>
          <p:nvPicPr>
            <p:cNvPr id="345" name="Picture 4" descr=""/>
            <p:cNvPicPr/>
            <p:nvPr/>
          </p:nvPicPr>
          <p:blipFill>
            <a:blip r:embed="rId1"/>
            <a:stretch/>
          </p:blipFill>
          <p:spPr>
            <a:xfrm>
              <a:off x="76320" y="838080"/>
              <a:ext cx="7083000" cy="51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Rectangle 6"/>
            <p:cNvSpPr/>
            <p:nvPr/>
          </p:nvSpPr>
          <p:spPr>
            <a:xfrm>
              <a:off x="713520" y="1679400"/>
              <a:ext cx="7224480" cy="36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utoShape 7"/>
            <p:cNvSpPr/>
            <p:nvPr/>
          </p:nvSpPr>
          <p:spPr>
            <a:xfrm>
              <a:off x="6274080" y="2032920"/>
              <a:ext cx="2265120" cy="87660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Tree of Arbi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AutoShape 9"/>
            <p:cNvSpPr/>
            <p:nvPr/>
          </p:nvSpPr>
          <p:spPr>
            <a:xfrm>
              <a:off x="135000" y="3521160"/>
              <a:ext cx="1643760" cy="365040"/>
            </a:xfrm>
            <a:prstGeom prst="roundRect">
              <a:avLst>
                <a:gd name="adj" fmla="val 28213"/>
              </a:avLst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 Unicode MS"/>
                  <a:ea typeface="Times New Roman"/>
                </a:rPr>
                <a:t>REQ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1"/>
            <p:cNvSpPr/>
            <p:nvPr/>
          </p:nvSpPr>
          <p:spPr>
            <a:xfrm>
              <a:off x="784440" y="2754360"/>
              <a:ext cx="4592160" cy="2319480"/>
            </a:xfrm>
            <a:custGeom>
              <a:avLst/>
              <a:gdLst/>
              <a:ahLst/>
              <a:rect l="l" t="t" r="r" b="b"/>
              <a:pathLst>
                <a:path w="3112" h="1792">
                  <a:moveTo>
                    <a:pt x="0" y="0"/>
                  </a:moveTo>
                  <a:cubicBezTo>
                    <a:pt x="3" y="91"/>
                    <a:pt x="3" y="181"/>
                    <a:pt x="8" y="272"/>
                  </a:cubicBezTo>
                  <a:cubicBezTo>
                    <a:pt x="13" y="366"/>
                    <a:pt x="20" y="459"/>
                    <a:pt x="32" y="552"/>
                  </a:cubicBezTo>
                  <a:cubicBezTo>
                    <a:pt x="50" y="692"/>
                    <a:pt x="382" y="632"/>
                    <a:pt x="392" y="632"/>
                  </a:cubicBezTo>
                  <a:cubicBezTo>
                    <a:pt x="610" y="655"/>
                    <a:pt x="829" y="663"/>
                    <a:pt x="1048" y="672"/>
                  </a:cubicBezTo>
                  <a:cubicBezTo>
                    <a:pt x="1052" y="673"/>
                    <a:pt x="1122" y="680"/>
                    <a:pt x="1128" y="688"/>
                  </a:cubicBezTo>
                  <a:cubicBezTo>
                    <a:pt x="1138" y="702"/>
                    <a:pt x="1144" y="736"/>
                    <a:pt x="1144" y="736"/>
                  </a:cubicBezTo>
                  <a:cubicBezTo>
                    <a:pt x="1147" y="899"/>
                    <a:pt x="1144" y="1061"/>
                    <a:pt x="1152" y="1224"/>
                  </a:cubicBezTo>
                  <a:cubicBezTo>
                    <a:pt x="1162" y="1432"/>
                    <a:pt x="1667" y="1336"/>
                    <a:pt x="1672" y="1336"/>
                  </a:cubicBezTo>
                  <a:cubicBezTo>
                    <a:pt x="1727" y="1342"/>
                    <a:pt x="1779" y="1347"/>
                    <a:pt x="1832" y="1360"/>
                  </a:cubicBezTo>
                  <a:cubicBezTo>
                    <a:pt x="1849" y="1463"/>
                    <a:pt x="1839" y="1569"/>
                    <a:pt x="1856" y="1672"/>
                  </a:cubicBezTo>
                  <a:cubicBezTo>
                    <a:pt x="1857" y="1681"/>
                    <a:pt x="1875" y="1726"/>
                    <a:pt x="1880" y="1728"/>
                  </a:cubicBezTo>
                  <a:cubicBezTo>
                    <a:pt x="1918" y="1741"/>
                    <a:pt x="1960" y="1743"/>
                    <a:pt x="2000" y="1744"/>
                  </a:cubicBezTo>
                  <a:cubicBezTo>
                    <a:pt x="2301" y="1751"/>
                    <a:pt x="2603" y="1749"/>
                    <a:pt x="2904" y="1752"/>
                  </a:cubicBezTo>
                  <a:cubicBezTo>
                    <a:pt x="2974" y="1769"/>
                    <a:pt x="3038" y="1792"/>
                    <a:pt x="3112" y="179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2"/>
            <p:cNvSpPr/>
            <p:nvPr/>
          </p:nvSpPr>
          <p:spPr>
            <a:xfrm>
              <a:off x="5187600" y="4915800"/>
              <a:ext cx="171000" cy="16380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3"/>
            <p:cNvSpPr/>
            <p:nvPr/>
          </p:nvSpPr>
          <p:spPr>
            <a:xfrm flipV="1" rot="1205400">
              <a:off x="5146200" y="5044680"/>
              <a:ext cx="170640" cy="1641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14"/>
            <p:cNvSpPr/>
            <p:nvPr/>
          </p:nvSpPr>
          <p:spPr>
            <a:xfrm>
              <a:off x="4151880" y="3480120"/>
              <a:ext cx="1835280" cy="730440"/>
            </a:xfrm>
            <a:prstGeom prst="roundRect">
              <a:avLst>
                <a:gd name="adj" fmla="val 28213"/>
              </a:avLst>
            </a:prstGeom>
            <a:solidFill>
              <a:srgbClr val="ffd9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GRANT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Group 22"/>
            <p:cNvGrpSpPr/>
            <p:nvPr/>
          </p:nvGrpSpPr>
          <p:grpSpPr>
            <a:xfrm>
              <a:off x="4165200" y="2734560"/>
              <a:ext cx="1789920" cy="2141280"/>
              <a:chOff x="4165200" y="2734560"/>
              <a:chExt cx="1789920" cy="2141280"/>
            </a:xfrm>
          </p:grpSpPr>
          <p:sp>
            <p:nvSpPr>
              <p:cNvPr id="354" name="Freeform 16"/>
              <p:cNvSpPr/>
              <p:nvPr/>
            </p:nvSpPr>
            <p:spPr>
              <a:xfrm>
                <a:off x="4165200" y="2734560"/>
                <a:ext cx="1789920" cy="2141280"/>
              </a:xfrm>
              <a:custGeom>
                <a:avLst/>
                <a:gdLst/>
                <a:ahLst/>
                <a:rect l="l" t="t" r="r" b="b"/>
                <a:pathLst>
                  <a:path w="1213" h="1514">
                    <a:moveTo>
                      <a:pt x="1165" y="1514"/>
                    </a:moveTo>
                    <a:cubicBezTo>
                      <a:pt x="1158" y="1285"/>
                      <a:pt x="1213" y="1262"/>
                      <a:pt x="1032" y="1240"/>
                    </a:cubicBezTo>
                    <a:cubicBezTo>
                      <a:pt x="849" y="1258"/>
                      <a:pt x="669" y="1254"/>
                      <a:pt x="486" y="1248"/>
                    </a:cubicBezTo>
                    <a:cubicBezTo>
                      <a:pt x="341" y="1209"/>
                      <a:pt x="169" y="1304"/>
                      <a:pt x="43" y="1218"/>
                    </a:cubicBezTo>
                    <a:cubicBezTo>
                      <a:pt x="34" y="1194"/>
                      <a:pt x="21" y="1065"/>
                      <a:pt x="13" y="1041"/>
                    </a:cubicBezTo>
                    <a:cubicBezTo>
                      <a:pt x="0" y="987"/>
                      <a:pt x="14" y="942"/>
                      <a:pt x="13" y="901"/>
                    </a:cubicBezTo>
                    <a:cubicBezTo>
                      <a:pt x="14" y="853"/>
                      <a:pt x="14" y="800"/>
                      <a:pt x="20" y="753"/>
                    </a:cubicBezTo>
                    <a:cubicBezTo>
                      <a:pt x="25" y="728"/>
                      <a:pt x="40" y="643"/>
                      <a:pt x="50" y="620"/>
                    </a:cubicBezTo>
                    <a:cubicBezTo>
                      <a:pt x="56" y="605"/>
                      <a:pt x="113" y="592"/>
                      <a:pt x="116" y="591"/>
                    </a:cubicBezTo>
                    <a:cubicBezTo>
                      <a:pt x="188" y="568"/>
                      <a:pt x="274" y="572"/>
                      <a:pt x="345" y="568"/>
                    </a:cubicBezTo>
                    <a:cubicBezTo>
                      <a:pt x="382" y="566"/>
                      <a:pt x="419" y="562"/>
                      <a:pt x="456" y="561"/>
                    </a:cubicBezTo>
                    <a:cubicBezTo>
                      <a:pt x="547" y="558"/>
                      <a:pt x="638" y="556"/>
                      <a:pt x="729" y="554"/>
                    </a:cubicBezTo>
                    <a:cubicBezTo>
                      <a:pt x="821" y="549"/>
                      <a:pt x="868" y="551"/>
                      <a:pt x="943" y="524"/>
                    </a:cubicBezTo>
                    <a:cubicBezTo>
                      <a:pt x="1048" y="369"/>
                      <a:pt x="995" y="192"/>
                      <a:pt x="995" y="0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17"/>
              <p:cNvSpPr/>
              <p:nvPr/>
            </p:nvSpPr>
            <p:spPr>
              <a:xfrm>
                <a:off x="5565600" y="2754360"/>
                <a:ext cx="59040" cy="11844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Freeform 18"/>
              <p:cNvSpPr/>
              <p:nvPr/>
            </p:nvSpPr>
            <p:spPr>
              <a:xfrm flipH="1">
                <a:off x="5648040" y="2748600"/>
                <a:ext cx="59040" cy="11880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AutoShape 20"/>
            <p:cNvSpPr/>
            <p:nvPr/>
          </p:nvSpPr>
          <p:spPr>
            <a:xfrm>
              <a:off x="1882440" y="5313240"/>
              <a:ext cx="284760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Anyreq raised if any req is active, Grant Issued if arbiter enab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AutoShape 21"/>
            <p:cNvSpPr/>
            <p:nvPr/>
          </p:nvSpPr>
          <p:spPr>
            <a:xfrm>
              <a:off x="6842160" y="4836600"/>
              <a:ext cx="157428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Root enabled if FU avail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2 - Selec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60" name="AutoShape 8"/>
          <p:cNvSpPr/>
          <p:nvPr/>
        </p:nvSpPr>
        <p:spPr>
          <a:xfrm>
            <a:off x="6553080" y="1523880"/>
            <a:ext cx="2428920" cy="43812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For a Single F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19"/>
          <p:cNvSpPr/>
          <p:nvPr/>
        </p:nvSpPr>
        <p:spPr>
          <a:xfrm>
            <a:off x="6224760" y="3132000"/>
            <a:ext cx="2933640" cy="65700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Location based selec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elect for more than one FU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Handling Multiple FUs of Same Type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ack Select logic block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in series - hierarchy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Mask the Request gran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o previous uni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NOT Feasible for More than 2 FU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lternative: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atically partition issue window among FUs – MIPS R10000, HP PA 8000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809880" cy="269532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5"/>
          <p:cNvSpPr/>
          <p:nvPr/>
        </p:nvSpPr>
        <p:spPr>
          <a:xfrm>
            <a:off x="5029200" y="1589040"/>
            <a:ext cx="457200" cy="1905120"/>
          </a:xfrm>
          <a:custGeom>
            <a:avLst/>
            <a:gdLst>
              <a:gd name="textAreaLeft" fmla="*/ 0 w 457200"/>
              <a:gd name="textAreaRight" fmla="*/ 164880 w 4572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Bypass and Execute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3" name="Oval 5"/>
          <p:cNvSpPr/>
          <p:nvPr/>
        </p:nvSpPr>
        <p:spPr>
          <a:xfrm>
            <a:off x="6095880" y="1295280"/>
            <a:ext cx="114300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atapath and Bypas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378" name="Picture 12" descr=""/>
          <p:cNvPicPr/>
          <p:nvPr/>
        </p:nvPicPr>
        <p:blipFill>
          <a:blip r:embed="rId1"/>
          <a:stretch/>
        </p:blipFill>
        <p:spPr>
          <a:xfrm>
            <a:off x="0" y="851040"/>
            <a:ext cx="6781680" cy="585468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13"/>
          <p:cNvSpPr/>
          <p:nvPr/>
        </p:nvSpPr>
        <p:spPr>
          <a:xfrm>
            <a:off x="3124080" y="1219320"/>
            <a:ext cx="3581640" cy="87660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Commonly Used Lay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14"/>
          <p:cNvSpPr/>
          <p:nvPr/>
        </p:nvSpPr>
        <p:spPr>
          <a:xfrm>
            <a:off x="4038480" y="5943600"/>
            <a:ext cx="2286000" cy="43812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1 Bit-S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15"/>
          <p:cNvSpPr/>
          <p:nvPr/>
        </p:nvSpPr>
        <p:spPr>
          <a:xfrm rot="16200000">
            <a:off x="5029200" y="426708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16"/>
          <p:cNvSpPr/>
          <p:nvPr/>
        </p:nvSpPr>
        <p:spPr>
          <a:xfrm>
            <a:off x="6775560" y="1820880"/>
            <a:ext cx="2373120" cy="2586600"/>
          </a:xfrm>
          <a:custGeom>
            <a:avLst/>
            <a:gdLst>
              <a:gd name="textAreaLeft" fmla="*/ 195840 w 2373120"/>
              <a:gd name="textAreaRight" fmla="*/ 2177280 w 2373120"/>
              <a:gd name="textAreaTop" fmla="*/ 195840 h 2586600"/>
              <a:gd name="textAreaBottom" fmla="*/ 2390760 h 2586600"/>
            </a:gdLst>
            <a:ahLst/>
            <a:rect l="textAreaLeft" t="textAreaTop" r="textAreaRight" b="textAreaBottom"/>
            <a:pathLst>
              <a:path w="21600" h="23543">
                <a:moveTo>
                  <a:pt x="6094" y="0"/>
                </a:moveTo>
                <a:arcTo wR="6094" hR="6094" stAng="16200000" swAng="-5400000"/>
                <a:lnTo>
                  <a:pt x="0" y="17449"/>
                </a:lnTo>
                <a:arcTo wR="6094" hR="6094" stAng="10800000" swAng="-5400000"/>
                <a:lnTo>
                  <a:pt x="15506" y="23543"/>
                </a:lnTo>
                <a:arcTo wR="6094" hR="6094" stAng="5400000" swAng="-5400000"/>
                <a:lnTo>
                  <a:pt x="21600" y="6094"/>
                </a:lnTo>
                <a:arcTo wR="6094" hR="6094" stAng="0" swAng="-5400000"/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Turn on Tri-State A to pass result of FU1 to left operand of FU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17"/>
          <p:cNvGrpSpPr/>
          <p:nvPr/>
        </p:nvGrpSpPr>
        <p:grpSpPr>
          <a:xfrm>
            <a:off x="4262400" y="2216160"/>
            <a:ext cx="1376280" cy="814320"/>
            <a:chOff x="4262400" y="2216160"/>
            <a:chExt cx="1376280" cy="814320"/>
          </a:xfrm>
        </p:grpSpPr>
        <p:sp>
          <p:nvSpPr>
            <p:cNvPr id="384" name="Freeform 18"/>
            <p:cNvSpPr/>
            <p:nvPr/>
          </p:nvSpPr>
          <p:spPr>
            <a:xfrm>
              <a:off x="4262400" y="2216160"/>
              <a:ext cx="1270080" cy="814320"/>
            </a:xfrm>
            <a:custGeom>
              <a:avLst/>
              <a:gdLst/>
              <a:ahLst/>
              <a:rect l="l" t="t" r="r" b="b"/>
              <a:pathLst>
                <a:path w="800" h="513">
                  <a:moveTo>
                    <a:pt x="143" y="0"/>
                  </a:moveTo>
                  <a:cubicBezTo>
                    <a:pt x="152" y="513"/>
                    <a:pt x="0" y="487"/>
                    <a:pt x="239" y="480"/>
                  </a:cubicBezTo>
                  <a:cubicBezTo>
                    <a:pt x="382" y="476"/>
                    <a:pt x="525" y="475"/>
                    <a:pt x="668" y="472"/>
                  </a:cubicBezTo>
                  <a:cubicBezTo>
                    <a:pt x="702" y="470"/>
                    <a:pt x="738" y="475"/>
                    <a:pt x="771" y="465"/>
                  </a:cubicBezTo>
                  <a:cubicBezTo>
                    <a:pt x="800" y="456"/>
                    <a:pt x="792" y="407"/>
                    <a:pt x="793" y="376"/>
                  </a:cubicBezTo>
                  <a:cubicBezTo>
                    <a:pt x="795" y="312"/>
                    <a:pt x="793" y="248"/>
                    <a:pt x="793" y="184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5410080" y="2514600"/>
              <a:ext cx="11772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 flipH="1">
              <a:off x="5521320" y="2514600"/>
              <a:ext cx="11736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Fetch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Fetch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Read instructions from I-Cach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redict Branch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ss on to Decode phas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5" name="Oval 5"/>
          <p:cNvSpPr/>
          <p:nvPr/>
        </p:nvSpPr>
        <p:spPr>
          <a:xfrm>
            <a:off x="990720" y="1295280"/>
            <a:ext cx="83808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ritical path delay as a function of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ssue Width 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indow Siz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gister Renaming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akeup and Selec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ypass path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Methodolog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 representative CMOS design is selected from published alternativ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mplemented the circuits for 3 technologi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0.8micron, 0.35micron and 0.18 micron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ptimize for speed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ire parasitics in delay mod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metal, Cmetal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Methodolog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eature size scaling: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Voltage scaling: 1 / U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ogic Delay = 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vantGarde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x V) / I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apac. Load: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vantGarde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= 1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upply Voltage: V = 1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1 / U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verage charge/discharge current: I = 1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1 / U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o, Logic Delay = (1 / S x 1 / U ) / (1 / U) =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ire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: wire lengt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ntrinsic RC delay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metal: resistance per unit lengt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metal: capacitance per unit lengt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0.5: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vantGarde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order approximation of distributed RC model – uniformly distributed R &amp; C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096240" cy="617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"/>
          <p:cNvPicPr/>
          <p:nvPr/>
        </p:nvPicPr>
        <p:blipFill>
          <a:blip r:embed="rId2"/>
          <a:stretch/>
        </p:blipFill>
        <p:spPr>
          <a:xfrm>
            <a:off x="1905120" y="2895480"/>
            <a:ext cx="4724280" cy="5810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"/>
          <p:cNvPicPr/>
          <p:nvPr/>
        </p:nvPicPr>
        <p:blipFill>
          <a:blip r:embed="rId3"/>
          <a:stretch/>
        </p:blipFill>
        <p:spPr>
          <a:xfrm>
            <a:off x="533520" y="4191120"/>
            <a:ext cx="839124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ire Delay Scaling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Metal Thickness doesn’t scale muc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idth ~ 1/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metal ~ 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ringe Capacitance dominates in smaller feature sizes – edges to parallel wires and the substrat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arallel plate – scales with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metal ~ 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ength scales with 1/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verall Scale factor: S x S x (1/S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vantGarde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= 1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vantGarde"/>
              </a:rPr>
              <a:t>Wire delay remains constan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gister Renaming Tabl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13" name="Picture 5" descr=""/>
          <p:cNvPicPr/>
          <p:nvPr/>
        </p:nvPicPr>
        <p:blipFill>
          <a:blip r:embed="rId1"/>
          <a:stretch/>
        </p:blipFill>
        <p:spPr>
          <a:xfrm>
            <a:off x="0" y="1600200"/>
            <a:ext cx="92106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pendency Checking Logic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ccessed in Parallel with Map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Every Logical Reg compared against logical dest regs of current rename group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or IW=2,4,8, delay less than map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8248680" cy="288576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5"/>
          <p:cNvGrpSpPr/>
          <p:nvPr/>
        </p:nvGrpSpPr>
        <p:grpSpPr>
          <a:xfrm>
            <a:off x="1219320" y="3314880"/>
            <a:ext cx="596880" cy="672840"/>
            <a:chOff x="1219320" y="3314880"/>
            <a:chExt cx="596880" cy="672840"/>
          </a:xfrm>
        </p:grpSpPr>
        <p:sp>
          <p:nvSpPr>
            <p:cNvPr id="420" name="Rectangle 6"/>
            <p:cNvSpPr/>
            <p:nvPr/>
          </p:nvSpPr>
          <p:spPr>
            <a:xfrm>
              <a:off x="1219320" y="3314880"/>
              <a:ext cx="152280" cy="228600"/>
            </a:xfrm>
            <a:prstGeom prst="rect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7"/>
            <p:cNvSpPr/>
            <p:nvPr/>
          </p:nvSpPr>
          <p:spPr>
            <a:xfrm>
              <a:off x="1219320" y="3568680"/>
              <a:ext cx="152280" cy="228600"/>
            </a:xfrm>
            <a:prstGeom prst="rect">
              <a:avLst/>
            </a:prstGeom>
            <a:noFill/>
            <a:ln w="284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8"/>
            <p:cNvSpPr/>
            <p:nvPr/>
          </p:nvSpPr>
          <p:spPr>
            <a:xfrm>
              <a:off x="1663560" y="3759120"/>
              <a:ext cx="152640" cy="2286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Group 9"/>
          <p:cNvGrpSpPr/>
          <p:nvPr/>
        </p:nvGrpSpPr>
        <p:grpSpPr>
          <a:xfrm>
            <a:off x="4800600" y="4038480"/>
            <a:ext cx="355680" cy="2212200"/>
            <a:chOff x="4800600" y="4038480"/>
            <a:chExt cx="355680" cy="2212200"/>
          </a:xfrm>
        </p:grpSpPr>
        <p:sp>
          <p:nvSpPr>
            <p:cNvPr id="424" name="Text Box 10"/>
            <p:cNvSpPr/>
            <p:nvPr/>
          </p:nvSpPr>
          <p:spPr>
            <a:xfrm>
              <a:off x="4800600" y="403848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cc33"/>
                  </a:solidFill>
                  <a:latin typeface="Times New Roman"/>
                  <a:ea typeface="Times New Roman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Text Box 11"/>
            <p:cNvSpPr/>
            <p:nvPr/>
          </p:nvSpPr>
          <p:spPr>
            <a:xfrm>
              <a:off x="4800600" y="441972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12"/>
            <p:cNvSpPr/>
            <p:nvPr/>
          </p:nvSpPr>
          <p:spPr>
            <a:xfrm>
              <a:off x="4800600" y="495288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13"/>
            <p:cNvSpPr/>
            <p:nvPr/>
          </p:nvSpPr>
          <p:spPr>
            <a:xfrm>
              <a:off x="4800600" y="464832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ccff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 Box 14"/>
            <p:cNvSpPr/>
            <p:nvPr/>
          </p:nvSpPr>
          <p:spPr>
            <a:xfrm>
              <a:off x="4800600" y="594360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Delay 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RAM schem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lay Component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to decode the arch reg index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to drive wordlin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to pull down bit lin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for SenseAmp to detect pull-down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MUX time ignored as control from dep. Check logic comes in advanc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1116000" y="4653000"/>
            <a:ext cx="67438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Circui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37" name="Picture 4" descr=""/>
          <p:cNvPicPr/>
          <p:nvPr/>
        </p:nvPicPr>
        <p:blipFill>
          <a:blip r:embed="rId1"/>
          <a:stretch/>
        </p:blipFill>
        <p:spPr>
          <a:xfrm>
            <a:off x="685800" y="1619280"/>
            <a:ext cx="777240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1225440" y="1066680"/>
            <a:ext cx="6693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Decod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rse instruction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huffle opcode parts to appropriate ports for renam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Oval 5"/>
          <p:cNvSpPr/>
          <p:nvPr/>
        </p:nvSpPr>
        <p:spPr>
          <a:xfrm>
            <a:off x="1905120" y="1371600"/>
            <a:ext cx="83808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redecoding for speed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ength of 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redecode lin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ellheight: Height of single cell excluding wordlin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ordline spacing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VREG: # of virtual reg-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x3: 3-operand instr-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822960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Tnand fall delay of NAND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Tnor rise delay of NOR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nandpd NAND pull-down  channel resistance + Predecode line metal resistance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+ Predecode line metal resistance (NAND --- NOR)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0.5 due to distributed R&amp;C model for delay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eq diff-n Cap. of NAND + gate Cap. of NOR + interconnect Cap.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51" name="Picture 5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105000" cy="5335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2"/>
          <a:stretch/>
        </p:blipFill>
        <p:spPr>
          <a:xfrm>
            <a:off x="380880" y="5410080"/>
            <a:ext cx="8534520" cy="436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7" descr=""/>
          <p:cNvPicPr/>
          <p:nvPr/>
        </p:nvPicPr>
        <p:blipFill>
          <a:blip r:embed="rId3"/>
          <a:stretch/>
        </p:blipFill>
        <p:spPr>
          <a:xfrm>
            <a:off x="1066680" y="2362320"/>
            <a:ext cx="6934320" cy="4572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8" descr=""/>
          <p:cNvPicPr/>
          <p:nvPr/>
        </p:nvPicPr>
        <p:blipFill>
          <a:blip r:embed="rId4"/>
          <a:stretch/>
        </p:blipFill>
        <p:spPr>
          <a:xfrm>
            <a:off x="4952880" y="1523880"/>
            <a:ext cx="3191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ubstitut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redecode line length, Req and Ceq we get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: intrinsic RC delay of predecode 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 very small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coder delay ~linearly dependent on  IW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59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4876920" cy="41904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e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ord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: intrinsic RC delay of word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 very small 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ordline delay ~linearly dependent on  IW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64" name="Picture 4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64440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e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809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itlin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c2 very small 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itline delay ~linearly dependent on  IW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enseAmp delay ~linearly dependent on  IW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70" name="Picture 7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5562720" cy="5065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e Logic Delay Scaling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495252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Feature size -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 [increase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bitline&amp;wordline delay with increasing IW] 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0.8um: IW 2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8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Bitline delay + 37%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0.18um: IW 2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8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Bitline delay + 53%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3240" y="1066680"/>
            <a:ext cx="3048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Total delay increases linearly with IW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Each Component shows linear increase with IW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Bitline Delay &gt; Wordline Delay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Bitline length ~ # of Logical reg-s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Wordline length ~ width of physical reg designator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76" name="Group 6"/>
          <p:cNvGrpSpPr/>
          <p:nvPr/>
        </p:nvGrpSpPr>
        <p:grpSpPr>
          <a:xfrm>
            <a:off x="539640" y="1197000"/>
            <a:ext cx="5457960" cy="3692520"/>
            <a:chOff x="539640" y="1197000"/>
            <a:chExt cx="5457960" cy="3692520"/>
          </a:xfrm>
        </p:grpSpPr>
        <p:pic>
          <p:nvPicPr>
            <p:cNvPr id="477" name="Picture 7" descr=""/>
            <p:cNvPicPr/>
            <p:nvPr/>
          </p:nvPicPr>
          <p:blipFill>
            <a:blip r:embed="rId1"/>
            <a:stretch/>
          </p:blipFill>
          <p:spPr>
            <a:xfrm>
              <a:off x="539640" y="1197000"/>
              <a:ext cx="5457960" cy="36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Line 8"/>
            <p:cNvSpPr/>
            <p:nvPr/>
          </p:nvSpPr>
          <p:spPr>
            <a:xfrm>
              <a:off x="1270080" y="283536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"/>
            <p:cNvSpPr/>
            <p:nvPr/>
          </p:nvSpPr>
          <p:spPr>
            <a:xfrm>
              <a:off x="1593720" y="277164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0"/>
            <p:cNvSpPr/>
            <p:nvPr/>
          </p:nvSpPr>
          <p:spPr>
            <a:xfrm>
              <a:off x="1917720" y="263844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1"/>
            <p:cNvSpPr/>
            <p:nvPr/>
          </p:nvSpPr>
          <p:spPr>
            <a:xfrm>
              <a:off x="2559240" y="375588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2"/>
            <p:cNvSpPr/>
            <p:nvPr/>
          </p:nvSpPr>
          <p:spPr>
            <a:xfrm>
              <a:off x="2882880" y="369252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3"/>
            <p:cNvSpPr/>
            <p:nvPr/>
          </p:nvSpPr>
          <p:spPr>
            <a:xfrm>
              <a:off x="3206880" y="359100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4"/>
            <p:cNvSpPr/>
            <p:nvPr/>
          </p:nvSpPr>
          <p:spPr>
            <a:xfrm>
              <a:off x="3860640" y="397836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5"/>
            <p:cNvSpPr/>
            <p:nvPr/>
          </p:nvSpPr>
          <p:spPr>
            <a:xfrm>
              <a:off x="4178160" y="394020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6"/>
            <p:cNvSpPr/>
            <p:nvPr/>
          </p:nvSpPr>
          <p:spPr>
            <a:xfrm>
              <a:off x="4502160" y="383832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Text Box 17"/>
          <p:cNvSpPr/>
          <p:nvPr/>
        </p:nvSpPr>
        <p:spPr>
          <a:xfrm>
            <a:off x="5697720" y="5241960"/>
            <a:ext cx="353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IW impact on delay worsens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with decreasing 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1 - Wakeup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rcRect l="0" t="0" r="1637" b="0"/>
          <a:stretch/>
        </p:blipFill>
        <p:spPr>
          <a:xfrm>
            <a:off x="1219320" y="11430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Critical Path: Mismatch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 Pull ready signal low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Delay Components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Tag drive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drive tag lines - vertic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ismatched bit: pull down stac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pull matchline low – horizont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Final OR gat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or all the matchlines of an operand tag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tagdrive ~ Driver Pullup R &amp; Tagline length &amp; Tagline Load C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Quadratic component significant for IW&gt;2 &amp; 0.18um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tretch/>
        </p:blipFill>
        <p:spPr>
          <a:xfrm>
            <a:off x="685800" y="4724280"/>
            <a:ext cx="8305920" cy="3049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497" name="Picture 5" descr=""/>
          <p:cNvPicPr/>
          <p:nvPr/>
        </p:nvPicPr>
        <p:blipFill>
          <a:blip r:embed="rId2"/>
          <a:stretch/>
        </p:blipFill>
        <p:spPr>
          <a:xfrm>
            <a:off x="3581280" y="3429000"/>
            <a:ext cx="533412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Quadratic component Small for both cas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oth delays ~linearly dependent on  IW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1290600" y="2311560"/>
            <a:ext cx="4648320" cy="56196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503" name="Picture 5" descr=""/>
          <p:cNvPicPr/>
          <p:nvPr/>
        </p:nvPicPr>
        <p:blipFill>
          <a:blip r:embed="rId2"/>
          <a:stretch/>
        </p:blipFill>
        <p:spPr>
          <a:xfrm>
            <a:off x="1403280" y="4149720"/>
            <a:ext cx="4343400" cy="4399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: IW and Window Siz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66920" y="1066680"/>
            <a:ext cx="2590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0.18um Proces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Quadratic dependence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ssue width has greater effec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increase all 3 delay component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As IW &amp; WinSize + togeth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delay actually changes like: </a:t>
            </a:r>
            <a:r>
              <a:rPr b="0" lang="en-US" sz="2000" spc="-1" strike="noStrike">
                <a:solidFill>
                  <a:srgbClr val="6600ff"/>
                </a:solidFill>
                <a:latin typeface="AvantGarde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rcRect l="0" t="0" r="51283" b="57203"/>
          <a:stretch/>
        </p:blipFill>
        <p:spPr>
          <a:xfrm>
            <a:off x="762120" y="1143000"/>
            <a:ext cx="4952880" cy="3649680"/>
          </a:xfrm>
          <a:prstGeom prst="rect">
            <a:avLst/>
          </a:prstGeom>
          <a:ln w="0">
            <a:noFill/>
          </a:ln>
        </p:spPr>
      </p:pic>
      <p:sp>
        <p:nvSpPr>
          <p:cNvPr id="509" name="Line 5"/>
          <p:cNvSpPr/>
          <p:nvPr/>
        </p:nvSpPr>
        <p:spPr>
          <a:xfrm flipV="1">
            <a:off x="3276720" y="2361960"/>
            <a:ext cx="2057400" cy="60948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nam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ap Architectural registers to Physic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Eliminate False Dependenc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sses renamed instructions to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cheduler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Called 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" name="Oval 5"/>
          <p:cNvSpPr/>
          <p:nvPr/>
        </p:nvSpPr>
        <p:spPr>
          <a:xfrm>
            <a:off x="2895480" y="1295280"/>
            <a:ext cx="83844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: Window Siz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762120" y="4800600"/>
            <a:ext cx="81532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8 way &amp; 0.18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ag drive delay increases rapidly with WinSize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Match OR delay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6" descr=""/>
          <p:cNvPicPr/>
          <p:nvPr/>
        </p:nvPicPr>
        <p:blipFill>
          <a:blip r:embed="rId3"/>
          <a:stretch/>
        </p:blipFill>
        <p:spPr>
          <a:xfrm>
            <a:off x="2362320" y="1295280"/>
            <a:ext cx="45720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: Feature siz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533520" y="4572000"/>
            <a:ext cx="861048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8 way &amp; 64 entry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ag drive and Tag match delays do not scale as well as MatchOR del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atch O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logic 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the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also have wire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5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487692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23"/>
          <p:cNvGrpSpPr/>
          <p:nvPr/>
        </p:nvGrpSpPr>
        <p:grpSpPr>
          <a:xfrm>
            <a:off x="76320" y="838080"/>
            <a:ext cx="8462880" cy="5461200"/>
            <a:chOff x="76320" y="838080"/>
            <a:chExt cx="8462880" cy="5461200"/>
          </a:xfrm>
        </p:grpSpPr>
        <p:pic>
          <p:nvPicPr>
            <p:cNvPr id="523" name="Picture 4" descr=""/>
            <p:cNvPicPr/>
            <p:nvPr/>
          </p:nvPicPr>
          <p:blipFill>
            <a:blip r:embed="rId1"/>
            <a:stretch/>
          </p:blipFill>
          <p:spPr>
            <a:xfrm>
              <a:off x="76320" y="838080"/>
              <a:ext cx="7083000" cy="51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Rectangle 6"/>
            <p:cNvSpPr/>
            <p:nvPr/>
          </p:nvSpPr>
          <p:spPr>
            <a:xfrm>
              <a:off x="713520" y="1679400"/>
              <a:ext cx="7224480" cy="36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AutoShape 7"/>
            <p:cNvSpPr/>
            <p:nvPr/>
          </p:nvSpPr>
          <p:spPr>
            <a:xfrm>
              <a:off x="6274080" y="2032920"/>
              <a:ext cx="2265120" cy="87660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Tree of Arbi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AutoShape 9"/>
            <p:cNvSpPr/>
            <p:nvPr/>
          </p:nvSpPr>
          <p:spPr>
            <a:xfrm>
              <a:off x="135000" y="3521160"/>
              <a:ext cx="1643760" cy="365040"/>
            </a:xfrm>
            <a:prstGeom prst="roundRect">
              <a:avLst>
                <a:gd name="adj" fmla="val 28213"/>
              </a:avLst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 Unicode MS"/>
                  <a:ea typeface="Times New Roman"/>
                </a:rPr>
                <a:t>REQ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1"/>
            <p:cNvSpPr/>
            <p:nvPr/>
          </p:nvSpPr>
          <p:spPr>
            <a:xfrm>
              <a:off x="784440" y="2754360"/>
              <a:ext cx="4592160" cy="2319480"/>
            </a:xfrm>
            <a:custGeom>
              <a:avLst/>
              <a:gdLst/>
              <a:ahLst/>
              <a:rect l="l" t="t" r="r" b="b"/>
              <a:pathLst>
                <a:path w="3112" h="1792">
                  <a:moveTo>
                    <a:pt x="0" y="0"/>
                  </a:moveTo>
                  <a:cubicBezTo>
                    <a:pt x="3" y="91"/>
                    <a:pt x="3" y="181"/>
                    <a:pt x="8" y="272"/>
                  </a:cubicBezTo>
                  <a:cubicBezTo>
                    <a:pt x="13" y="366"/>
                    <a:pt x="20" y="459"/>
                    <a:pt x="32" y="552"/>
                  </a:cubicBezTo>
                  <a:cubicBezTo>
                    <a:pt x="50" y="692"/>
                    <a:pt x="382" y="632"/>
                    <a:pt x="392" y="632"/>
                  </a:cubicBezTo>
                  <a:cubicBezTo>
                    <a:pt x="610" y="655"/>
                    <a:pt x="829" y="663"/>
                    <a:pt x="1048" y="672"/>
                  </a:cubicBezTo>
                  <a:cubicBezTo>
                    <a:pt x="1052" y="673"/>
                    <a:pt x="1122" y="680"/>
                    <a:pt x="1128" y="688"/>
                  </a:cubicBezTo>
                  <a:cubicBezTo>
                    <a:pt x="1138" y="702"/>
                    <a:pt x="1144" y="736"/>
                    <a:pt x="1144" y="736"/>
                  </a:cubicBezTo>
                  <a:cubicBezTo>
                    <a:pt x="1147" y="899"/>
                    <a:pt x="1144" y="1061"/>
                    <a:pt x="1152" y="1224"/>
                  </a:cubicBezTo>
                  <a:cubicBezTo>
                    <a:pt x="1162" y="1432"/>
                    <a:pt x="1667" y="1336"/>
                    <a:pt x="1672" y="1336"/>
                  </a:cubicBezTo>
                  <a:cubicBezTo>
                    <a:pt x="1727" y="1342"/>
                    <a:pt x="1779" y="1347"/>
                    <a:pt x="1832" y="1360"/>
                  </a:cubicBezTo>
                  <a:cubicBezTo>
                    <a:pt x="1849" y="1463"/>
                    <a:pt x="1839" y="1569"/>
                    <a:pt x="1856" y="1672"/>
                  </a:cubicBezTo>
                  <a:cubicBezTo>
                    <a:pt x="1857" y="1681"/>
                    <a:pt x="1875" y="1726"/>
                    <a:pt x="1880" y="1728"/>
                  </a:cubicBezTo>
                  <a:cubicBezTo>
                    <a:pt x="1918" y="1741"/>
                    <a:pt x="1960" y="1743"/>
                    <a:pt x="2000" y="1744"/>
                  </a:cubicBezTo>
                  <a:cubicBezTo>
                    <a:pt x="2301" y="1751"/>
                    <a:pt x="2603" y="1749"/>
                    <a:pt x="2904" y="1752"/>
                  </a:cubicBezTo>
                  <a:cubicBezTo>
                    <a:pt x="2974" y="1769"/>
                    <a:pt x="3038" y="1792"/>
                    <a:pt x="3112" y="179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12"/>
            <p:cNvSpPr/>
            <p:nvPr/>
          </p:nvSpPr>
          <p:spPr>
            <a:xfrm>
              <a:off x="5187600" y="4915800"/>
              <a:ext cx="171000" cy="16380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3"/>
            <p:cNvSpPr/>
            <p:nvPr/>
          </p:nvSpPr>
          <p:spPr>
            <a:xfrm flipV="1" rot="1205400">
              <a:off x="5146200" y="5044680"/>
              <a:ext cx="170640" cy="1641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AutoShape 14"/>
            <p:cNvSpPr/>
            <p:nvPr/>
          </p:nvSpPr>
          <p:spPr>
            <a:xfrm>
              <a:off x="4151880" y="3480120"/>
              <a:ext cx="1835280" cy="730440"/>
            </a:xfrm>
            <a:prstGeom prst="roundRect">
              <a:avLst>
                <a:gd name="adj" fmla="val 28213"/>
              </a:avLst>
            </a:prstGeom>
            <a:solidFill>
              <a:srgbClr val="ffd9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GRANT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Group 22"/>
            <p:cNvGrpSpPr/>
            <p:nvPr/>
          </p:nvGrpSpPr>
          <p:grpSpPr>
            <a:xfrm>
              <a:off x="4165200" y="2734560"/>
              <a:ext cx="1789920" cy="2141280"/>
              <a:chOff x="4165200" y="2734560"/>
              <a:chExt cx="1789920" cy="2141280"/>
            </a:xfrm>
          </p:grpSpPr>
          <p:sp>
            <p:nvSpPr>
              <p:cNvPr id="532" name="Freeform 16"/>
              <p:cNvSpPr/>
              <p:nvPr/>
            </p:nvSpPr>
            <p:spPr>
              <a:xfrm>
                <a:off x="4165200" y="2734560"/>
                <a:ext cx="1789920" cy="2141280"/>
              </a:xfrm>
              <a:custGeom>
                <a:avLst/>
                <a:gdLst/>
                <a:ahLst/>
                <a:rect l="l" t="t" r="r" b="b"/>
                <a:pathLst>
                  <a:path w="1213" h="1514">
                    <a:moveTo>
                      <a:pt x="1165" y="1514"/>
                    </a:moveTo>
                    <a:cubicBezTo>
                      <a:pt x="1158" y="1285"/>
                      <a:pt x="1213" y="1262"/>
                      <a:pt x="1032" y="1240"/>
                    </a:cubicBezTo>
                    <a:cubicBezTo>
                      <a:pt x="849" y="1258"/>
                      <a:pt x="669" y="1254"/>
                      <a:pt x="486" y="1248"/>
                    </a:cubicBezTo>
                    <a:cubicBezTo>
                      <a:pt x="341" y="1209"/>
                      <a:pt x="169" y="1304"/>
                      <a:pt x="43" y="1218"/>
                    </a:cubicBezTo>
                    <a:cubicBezTo>
                      <a:pt x="34" y="1194"/>
                      <a:pt x="21" y="1065"/>
                      <a:pt x="13" y="1041"/>
                    </a:cubicBezTo>
                    <a:cubicBezTo>
                      <a:pt x="0" y="987"/>
                      <a:pt x="14" y="942"/>
                      <a:pt x="13" y="901"/>
                    </a:cubicBezTo>
                    <a:cubicBezTo>
                      <a:pt x="14" y="853"/>
                      <a:pt x="14" y="800"/>
                      <a:pt x="20" y="753"/>
                    </a:cubicBezTo>
                    <a:cubicBezTo>
                      <a:pt x="25" y="728"/>
                      <a:pt x="40" y="643"/>
                      <a:pt x="50" y="620"/>
                    </a:cubicBezTo>
                    <a:cubicBezTo>
                      <a:pt x="56" y="605"/>
                      <a:pt x="113" y="592"/>
                      <a:pt x="116" y="591"/>
                    </a:cubicBezTo>
                    <a:cubicBezTo>
                      <a:pt x="188" y="568"/>
                      <a:pt x="274" y="572"/>
                      <a:pt x="345" y="568"/>
                    </a:cubicBezTo>
                    <a:cubicBezTo>
                      <a:pt x="382" y="566"/>
                      <a:pt x="419" y="562"/>
                      <a:pt x="456" y="561"/>
                    </a:cubicBezTo>
                    <a:cubicBezTo>
                      <a:pt x="547" y="558"/>
                      <a:pt x="638" y="556"/>
                      <a:pt x="729" y="554"/>
                    </a:cubicBezTo>
                    <a:cubicBezTo>
                      <a:pt x="821" y="549"/>
                      <a:pt x="868" y="551"/>
                      <a:pt x="943" y="524"/>
                    </a:cubicBezTo>
                    <a:cubicBezTo>
                      <a:pt x="1048" y="369"/>
                      <a:pt x="995" y="192"/>
                      <a:pt x="995" y="0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17"/>
              <p:cNvSpPr/>
              <p:nvPr/>
            </p:nvSpPr>
            <p:spPr>
              <a:xfrm>
                <a:off x="5565600" y="2754360"/>
                <a:ext cx="59040" cy="11844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18"/>
              <p:cNvSpPr/>
              <p:nvPr/>
            </p:nvSpPr>
            <p:spPr>
              <a:xfrm flipH="1">
                <a:off x="5648040" y="2748600"/>
                <a:ext cx="59040" cy="11880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AutoShape 20"/>
            <p:cNvSpPr/>
            <p:nvPr/>
          </p:nvSpPr>
          <p:spPr>
            <a:xfrm>
              <a:off x="1882440" y="5313240"/>
              <a:ext cx="284760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Anyreq raised if any req is active, Grant Issued if arbiter enab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AutoShape 21"/>
            <p:cNvSpPr/>
            <p:nvPr/>
          </p:nvSpPr>
          <p:spPr>
            <a:xfrm>
              <a:off x="6842160" y="4836600"/>
              <a:ext cx="157428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Root enabled if FU avail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2 - Selec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38" name="AutoShape 8"/>
          <p:cNvSpPr/>
          <p:nvPr/>
        </p:nvSpPr>
        <p:spPr>
          <a:xfrm>
            <a:off x="6553080" y="1523880"/>
            <a:ext cx="2428920" cy="43812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For a Single F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19"/>
          <p:cNvSpPr/>
          <p:nvPr/>
        </p:nvSpPr>
        <p:spPr>
          <a:xfrm>
            <a:off x="6224760" y="3132000"/>
            <a:ext cx="2933640" cy="65700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Location based selec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election Logic and Bypass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election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ogarithmically dependent on WinSiz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ypass: Delay dependent on  (IW)2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544" name="Picture 5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4724280" cy="5317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ult Forwarding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umber of possible bypass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 pipestages after first result stage &amp; 2 I/p FU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Key Delay Component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of result wir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bypass length &amp; loa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rongly layout dependen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4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1E7A-97B3-4D96-AD6A-20643C889A0C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0FC3-AC43-4D3D-98D6-10E41EE20B62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7"/>
          <a:stretch/>
        </p:blipFill>
        <p:spPr>
          <a:xfrm>
            <a:off x="2057400" y="2709720"/>
            <a:ext cx="1981080" cy="3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72400" cy="5181840"/>
          </a:xfrm>
          <a:prstGeom prst="rect">
            <a:avLst/>
          </a:prstGeom>
          <a:ln w="0">
            <a:noFill/>
          </a:ln>
        </p:spPr>
      </p:pic>
      <p:sp>
        <p:nvSpPr>
          <p:cNvPr id="55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EA9C-E6D7-46C8-B6B5-97322B6ED973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A487-4BB0-41CD-883C-B59B87EA17AC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6" descr=""/>
          <p:cNvPicPr/>
          <p:nvPr/>
        </p:nvPicPr>
        <p:blipFill>
          <a:blip r:embed="rId2"/>
          <a:stretch/>
        </p:blipFill>
        <p:spPr>
          <a:xfrm>
            <a:off x="0" y="1003320"/>
            <a:ext cx="6781680" cy="5854680"/>
          </a:xfrm>
          <a:prstGeom prst="rect">
            <a:avLst/>
          </a:prstGeom>
          <a:ln w="0">
            <a:noFill/>
          </a:ln>
        </p:spPr>
      </p:pic>
      <p:sp>
        <p:nvSpPr>
          <p:cNvPr id="557" name="AutoShape 7"/>
          <p:cNvSpPr/>
          <p:nvPr/>
        </p:nvSpPr>
        <p:spPr>
          <a:xfrm>
            <a:off x="3124080" y="1371600"/>
            <a:ext cx="358164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monly Used Layo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9"/>
          <p:cNvSpPr/>
          <p:nvPr/>
        </p:nvSpPr>
        <p:spPr>
          <a:xfrm>
            <a:off x="4038480" y="6095880"/>
            <a:ext cx="228600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 Bit-S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0"/>
          <p:cNvSpPr/>
          <p:nvPr/>
        </p:nvSpPr>
        <p:spPr>
          <a:xfrm rot="16200000">
            <a:off x="5029200" y="441936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3"/>
          <p:cNvSpPr/>
          <p:nvPr/>
        </p:nvSpPr>
        <p:spPr>
          <a:xfrm>
            <a:off x="6791400" y="1989000"/>
            <a:ext cx="2343240" cy="14612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urn on Tri-State A to pass result of FU1 to left operand of FU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Group 17"/>
          <p:cNvGrpSpPr/>
          <p:nvPr/>
        </p:nvGrpSpPr>
        <p:grpSpPr>
          <a:xfrm>
            <a:off x="4262400" y="2368440"/>
            <a:ext cx="1376280" cy="814320"/>
            <a:chOff x="4262400" y="2368440"/>
            <a:chExt cx="1376280" cy="814320"/>
          </a:xfrm>
        </p:grpSpPr>
        <p:sp>
          <p:nvSpPr>
            <p:cNvPr id="562" name="Freeform 14"/>
            <p:cNvSpPr/>
            <p:nvPr/>
          </p:nvSpPr>
          <p:spPr>
            <a:xfrm>
              <a:off x="4262400" y="2368440"/>
              <a:ext cx="1270080" cy="814320"/>
            </a:xfrm>
            <a:custGeom>
              <a:avLst/>
              <a:gdLst/>
              <a:ahLst/>
              <a:rect l="l" t="t" r="r" b="b"/>
              <a:pathLst>
                <a:path w="800" h="513">
                  <a:moveTo>
                    <a:pt x="143" y="0"/>
                  </a:moveTo>
                  <a:cubicBezTo>
                    <a:pt x="152" y="513"/>
                    <a:pt x="0" y="487"/>
                    <a:pt x="239" y="480"/>
                  </a:cubicBezTo>
                  <a:cubicBezTo>
                    <a:pt x="382" y="476"/>
                    <a:pt x="525" y="475"/>
                    <a:pt x="668" y="472"/>
                  </a:cubicBezTo>
                  <a:cubicBezTo>
                    <a:pt x="702" y="470"/>
                    <a:pt x="738" y="475"/>
                    <a:pt x="771" y="465"/>
                  </a:cubicBezTo>
                  <a:cubicBezTo>
                    <a:pt x="800" y="456"/>
                    <a:pt x="792" y="407"/>
                    <a:pt x="793" y="376"/>
                  </a:cubicBezTo>
                  <a:cubicBezTo>
                    <a:pt x="795" y="312"/>
                    <a:pt x="793" y="248"/>
                    <a:pt x="793" y="184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15"/>
            <p:cNvSpPr/>
            <p:nvPr/>
          </p:nvSpPr>
          <p:spPr>
            <a:xfrm>
              <a:off x="5410080" y="2666880"/>
              <a:ext cx="11772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 flipH="1">
              <a:off x="5521320" y="2666880"/>
              <a:ext cx="11736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 Dela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lay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Generic wire delay: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 is dependent on # of FUs (IW) &amp; FU height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Pipeline depth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&lt;NOT implemented in simulations!&gt;</a:t>
            </a:r>
            <a:endParaRPr b="0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vantGarde"/>
              </a:rPr>
              <a:t>Typical FU heights:</a:t>
            </a:r>
            <a:endParaRPr b="1" lang="en-US" sz="28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6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FDA6-8D1F-4536-B61F-E1115355973C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0AD7-3BDD-473A-97F4-E3B3BCA3DBD5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5" descr=""/>
          <p:cNvPicPr/>
          <p:nvPr/>
        </p:nvPicPr>
        <p:blipFill>
          <a:blip r:embed="rId6"/>
          <a:stretch/>
        </p:blipFill>
        <p:spPr>
          <a:xfrm>
            <a:off x="3200400" y="1905120"/>
            <a:ext cx="5486400" cy="5554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6" descr=""/>
          <p:cNvPicPr/>
          <p:nvPr/>
        </p:nvPicPr>
        <p:blipFill>
          <a:blip r:embed="rId7"/>
          <a:stretch/>
        </p:blipFill>
        <p:spPr>
          <a:xfrm>
            <a:off x="1143000" y="3962520"/>
            <a:ext cx="71247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 Dela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omputed delays for hypothetical machines: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(Delay independent of feature size)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vantGarde"/>
              </a:rPr>
              <a:t>Delay dependent on  (IW)</a:t>
            </a:r>
            <a:r>
              <a:rPr b="1" lang="en-US" sz="2400" spc="-1" strike="noStrike" baseline="20000">
                <a:solidFill>
                  <a:srgbClr val="3333cc"/>
                </a:solidFill>
                <a:latin typeface="AvantGarde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545A-0857-4EFF-A9AD-FF57463C3F2F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5799-AF21-4208-AA81-069EE9EC8D5A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6" descr=""/>
          <p:cNvPicPr/>
          <p:nvPr/>
        </p:nvPicPr>
        <p:blipFill>
          <a:blip r:embed="rId5"/>
          <a:stretch/>
        </p:blipFill>
        <p:spPr>
          <a:xfrm>
            <a:off x="457200" y="2438280"/>
            <a:ext cx="83818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 </a:t>
            </a:r>
            <a:r>
              <a:rPr b="1" lang="en-US" sz="2800" spc="-1" strike="noStrike">
                <a:solidFill>
                  <a:srgbClr val="ffffff"/>
                </a:solidFill>
                <a:latin typeface="AvantGarde"/>
              </a:rPr>
              <a:t>Alternative Layouts</a:t>
            </a:r>
            <a:endParaRPr b="0" lang="en-US" sz="28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lay computation directly dependent on layou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vantGarde"/>
              </a:rPr>
              <a:t>Clustered Organizations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(DEC 21264)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F67E-EBCE-4868-A8C9-8BA5BE37EE6F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9A6A-583A-4014-82D0-5D9126BF5779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5" descr=""/>
          <p:cNvPicPr/>
          <p:nvPr/>
        </p:nvPicPr>
        <p:blipFill>
          <a:blip r:embed="rId2"/>
          <a:stretch/>
        </p:blipFill>
        <p:spPr>
          <a:xfrm>
            <a:off x="0" y="2895480"/>
            <a:ext cx="3141720" cy="342900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6"/>
          <p:cNvSpPr/>
          <p:nvPr/>
        </p:nvSpPr>
        <p:spPr>
          <a:xfrm>
            <a:off x="2362320" y="335268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cluster of FUs with its own reg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Cluster bypasses: 1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Cluster bypasses: 2 or more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 &amp; compiler effort to ensure inter cluster bypasses occur infrequ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CHARACTERIZING COMPLEXITY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4 Wa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Window Logic is bottleneck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8 Wa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Bypass Logic is bottleneck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8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A27E-381B-4D28-BBCC-0B7DB6FF0910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B548-764A-4758-9FB4-566BC2AFF5E8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6" descr=""/>
          <p:cNvPicPr/>
          <p:nvPr/>
        </p:nvPicPr>
        <p:blipFill>
          <a:blip r:embed="rId9"/>
          <a:stretch/>
        </p:blipFill>
        <p:spPr>
          <a:xfrm>
            <a:off x="3352680" y="914400"/>
            <a:ext cx="51818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Wakeup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structions check whether they become ready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From Writeback: physical register nam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elect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Amongst the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ady 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lect those to execut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tructural hazard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Oval 5"/>
          <p:cNvSpPr/>
          <p:nvPr/>
        </p:nvSpPr>
        <p:spPr>
          <a:xfrm>
            <a:off x="3886200" y="1295280"/>
            <a:ext cx="121932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CHARACTERIZING COMPLEXITY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Window logic</a:t>
            </a: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&amp; Bypass logic</a:t>
            </a: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Both are ‘atomic’ operation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- dependent instr-s cannot issue consecutively if pipeline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0E18-ABB4-4F72-B3F8-106E053AD5D6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BE8B-3D4A-45A9-BE5B-A20C8B3708B4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Picture 6" descr=""/>
          <p:cNvPicPr/>
          <p:nvPr/>
        </p:nvPicPr>
        <p:blipFill>
          <a:blip r:embed="rId4"/>
          <a:stretch/>
        </p:blipFill>
        <p:spPr>
          <a:xfrm>
            <a:off x="1447920" y="3962520"/>
            <a:ext cx="63054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vantGarde"/>
              </a:rPr>
              <a:t>COMPLEXITY EFFECTIVE MICROARCHITECTURE</a:t>
            </a:r>
            <a:endParaRPr b="0" lang="en-US" sz="28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rainiac &amp; Maniac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High IPC &amp; High CLK rat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implify Wakeup &amp; Selection Logic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aturally extendable to clustering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an solve bypass problem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Group dependent instr-s rather than independent one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Dependence Based Architectur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ADA3-FEFF-4EFE-832F-7C71A2229EAD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2BEC-6EED-42FE-8C1A-0099CFFD79BC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t instr-s cannot execute in parall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ssue Window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FIFO buffers (issue inorder)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‘</a:t>
            </a:r>
            <a:r>
              <a:rPr b="0" i="1" lang="en-US" sz="2000" spc="-1" strike="noStrike">
                <a:solidFill>
                  <a:srgbClr val="000000"/>
                </a:solidFill>
                <a:latin typeface="AvantGarde"/>
              </a:rPr>
              <a:t>Steer’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dependent instr-s to same FIFO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nly FIFO heads need check for ready operand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0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F1A5-F59C-4BD6-81D3-16875A6F321A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5ADA-ADB4-416D-A827-A9C366D530D1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5" descr=""/>
          <p:cNvPicPr/>
          <p:nvPr/>
        </p:nvPicPr>
        <p:blipFill>
          <a:blip r:embed="rId2"/>
          <a:stretch/>
        </p:blipFill>
        <p:spPr>
          <a:xfrm>
            <a:off x="380880" y="669960"/>
            <a:ext cx="79250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4220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RC_FIFO Table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imilar to Map tabl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dexed with logic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egister designator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Entries: SRC-FIFO(Rs)=FIFO where the instr-n that will write Rs exists. &lt;Invalid if instr-n completed&gt;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an be accessed parallel with map table 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FB92-3F7D-4C7E-8DC4-79A176DFF965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84BF-9515-4F40-B032-DBA590416F5C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4" descr=""/>
          <p:cNvPicPr/>
          <p:nvPr/>
        </p:nvPicPr>
        <p:blipFill>
          <a:blip r:embed="rId5"/>
          <a:stretch/>
        </p:blipFill>
        <p:spPr>
          <a:xfrm>
            <a:off x="4648320" y="1374840"/>
            <a:ext cx="449568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vantGarde"/>
              </a:rPr>
              <a:t>Steering Heuristic:</a:t>
            </a:r>
            <a:endParaRPr b="1" lang="en-US" sz="28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f all operands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-n in regfil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eer to an empty FIFO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-n has a single outstanding operand to be written by Inst0, in FIFO F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 instr-n behind Inst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Fa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/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an empty FIFO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-n has 2 outstanding operands to be written by Inst0&amp;Inst1 in Fa &amp; F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 instr-n behind Inst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Fa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/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No instr-n behind Inst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Fb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/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an empty FIFO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f all FIFOs full/No Empty FIF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STALL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5AF6-0993-4C99-90F2-2E7C339E092A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5874-57C3-4496-8A2E-F90154D6DA06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Picture 1028" descr=""/>
          <p:cNvPicPr/>
          <p:nvPr/>
        </p:nvPicPr>
        <p:blipFill>
          <a:blip r:embed="rId12"/>
          <a:stretch/>
        </p:blipFill>
        <p:spPr>
          <a:xfrm>
            <a:off x="4724280" y="685800"/>
            <a:ext cx="449604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teering Heuristic &lt;Ex&gt;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2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AFAC-650E-49F6-85FE-4CC4AFE3C56A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176C-9D51-488F-8E9B-2D37785983AC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1029" descr=""/>
          <p:cNvPicPr/>
          <p:nvPr/>
        </p:nvPicPr>
        <p:blipFill>
          <a:blip r:embed="rId2"/>
          <a:stretch/>
        </p:blipFill>
        <p:spPr>
          <a:xfrm>
            <a:off x="1371600" y="2035080"/>
            <a:ext cx="6705720" cy="4822920"/>
          </a:xfrm>
          <a:prstGeom prst="rect">
            <a:avLst/>
          </a:prstGeom>
          <a:ln w="0">
            <a:noFill/>
          </a:ln>
        </p:spPr>
      </p:pic>
      <p:sp>
        <p:nvSpPr>
          <p:cNvPr id="626" name="AutoShape 1030"/>
          <p:cNvSpPr/>
          <p:nvPr/>
        </p:nvSpPr>
        <p:spPr>
          <a:xfrm>
            <a:off x="6781680" y="1371600"/>
            <a:ext cx="2167200" cy="7304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eer Width: 4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-way(I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Group 1037"/>
          <p:cNvGrpSpPr/>
          <p:nvPr/>
        </p:nvGrpSpPr>
        <p:grpSpPr>
          <a:xfrm>
            <a:off x="2139840" y="2689200"/>
            <a:ext cx="574920" cy="679320"/>
            <a:chOff x="2139840" y="2689200"/>
            <a:chExt cx="574920" cy="679320"/>
          </a:xfrm>
        </p:grpSpPr>
        <p:sp>
          <p:nvSpPr>
            <p:cNvPr id="628" name="Oval 1031"/>
            <p:cNvSpPr/>
            <p:nvPr/>
          </p:nvSpPr>
          <p:spPr>
            <a:xfrm>
              <a:off x="2209680" y="2689200"/>
              <a:ext cx="304920" cy="30456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Oval 1032"/>
            <p:cNvSpPr/>
            <p:nvPr/>
          </p:nvSpPr>
          <p:spPr>
            <a:xfrm>
              <a:off x="2209680" y="2892240"/>
              <a:ext cx="304920" cy="304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1033"/>
            <p:cNvSpPr/>
            <p:nvPr/>
          </p:nvSpPr>
          <p:spPr>
            <a:xfrm>
              <a:off x="2409840" y="3055680"/>
              <a:ext cx="304920" cy="304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Oval 1036"/>
            <p:cNvSpPr/>
            <p:nvPr/>
          </p:nvSpPr>
          <p:spPr>
            <a:xfrm>
              <a:off x="2139840" y="3063600"/>
              <a:ext cx="304920" cy="30492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Group 1043"/>
          <p:cNvGrpSpPr/>
          <p:nvPr/>
        </p:nvGrpSpPr>
        <p:grpSpPr>
          <a:xfrm>
            <a:off x="2081160" y="3440160"/>
            <a:ext cx="619200" cy="895320"/>
            <a:chOff x="2081160" y="3440160"/>
            <a:chExt cx="619200" cy="895320"/>
          </a:xfrm>
        </p:grpSpPr>
        <p:sp>
          <p:nvSpPr>
            <p:cNvPr id="633" name="Oval 1039"/>
            <p:cNvSpPr/>
            <p:nvPr/>
          </p:nvSpPr>
          <p:spPr>
            <a:xfrm>
              <a:off x="2081160" y="3440160"/>
              <a:ext cx="304920" cy="30492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Oval 1040"/>
            <p:cNvSpPr/>
            <p:nvPr/>
          </p:nvSpPr>
          <p:spPr>
            <a:xfrm>
              <a:off x="2301840" y="4030560"/>
              <a:ext cx="304920" cy="304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Oval 1041"/>
            <p:cNvSpPr/>
            <p:nvPr/>
          </p:nvSpPr>
          <p:spPr>
            <a:xfrm>
              <a:off x="2116080" y="3645000"/>
              <a:ext cx="304920" cy="30456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Oval 1042"/>
            <p:cNvSpPr/>
            <p:nvPr/>
          </p:nvSpPr>
          <p:spPr>
            <a:xfrm>
              <a:off x="2395440" y="3627360"/>
              <a:ext cx="304920" cy="30492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" dur="1" fill="hold"/>
                                  <p:tgtEl>
                                    <p:spTgt spid="6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Performance Result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ce Arch. vs. Base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8 FIFOs, 8 entries/ FIFO vs. WinSize=64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8 –way, aggressive instr-n fetch (no block)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impleScal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imul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PEC’95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0.5B instr-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CBAF-97B6-4909-B594-328951A80576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C3BF-610B-49AA-B526-0385BE864046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4" descr=""/>
          <p:cNvPicPr/>
          <p:nvPr/>
        </p:nvPicPr>
        <p:blipFill>
          <a:blip r:embed="rId8"/>
          <a:stretch/>
        </p:blipFill>
        <p:spPr>
          <a:xfrm>
            <a:off x="3809880" y="2514600"/>
            <a:ext cx="439920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Performance Result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ce Arch. vs. Baseline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5E59-3B47-48BB-8D7A-020C1D4DD34F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9CF5-E8F4-4A64-B255-F2B4C7993E72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1029" descr=""/>
          <p:cNvPicPr/>
          <p:nvPr/>
        </p:nvPicPr>
        <p:blipFill>
          <a:blip r:embed="rId2"/>
          <a:stretch/>
        </p:blipFill>
        <p:spPr>
          <a:xfrm>
            <a:off x="0" y="1914480"/>
            <a:ext cx="6934320" cy="4943520"/>
          </a:xfrm>
          <a:prstGeom prst="rect">
            <a:avLst/>
          </a:prstGeom>
          <a:ln w="0">
            <a:noFill/>
          </a:ln>
        </p:spPr>
      </p:pic>
      <p:sp>
        <p:nvSpPr>
          <p:cNvPr id="649" name="AutoShape 1033"/>
          <p:cNvSpPr/>
          <p:nvPr/>
        </p:nvSpPr>
        <p:spPr>
          <a:xfrm>
            <a:off x="3886200" y="1981080"/>
            <a:ext cx="373392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str-s committed per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1034"/>
          <p:cNvSpPr/>
          <p:nvPr/>
        </p:nvSpPr>
        <p:spPr>
          <a:xfrm>
            <a:off x="7010280" y="3733920"/>
            <a:ext cx="1863720" cy="14612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x Performance Degradation 8% in 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Wakeup Logic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Need not to broadcast result tags to all window entri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only to FIFO head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vantGarde"/>
              </a:rPr>
              <a:t>Reservation Table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1 bit per reg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‘Waiting for data’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t result reg when instr-n dispatched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Clear when instr-n execut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str-n at FIFO head checks its operands’ bit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of Wakeup logi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of Reservation table acces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9CB8-16C2-4683-BBFF-E996F1156FCE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DE84-B511-4A5F-844B-FD4308A7DF43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ervation Station vs. Baseline Wakeup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ervation Station: 80 Regs, 0.18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indow-Based arch. 32&amp;64 Reg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AFC4-F61C-4B26-87BF-56733DC12530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05F0-7845-40E3-B9EB-CA26040AE2EC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4" descr=""/>
          <p:cNvPicPr/>
          <p:nvPr/>
        </p:nvPicPr>
        <p:blipFill>
          <a:blip r:embed="rId1"/>
          <a:stretch/>
        </p:blipFill>
        <p:spPr>
          <a:xfrm>
            <a:off x="1295280" y="2470320"/>
            <a:ext cx="5715000" cy="1400040"/>
          </a:xfrm>
          <a:prstGeom prst="rect">
            <a:avLst/>
          </a:prstGeom>
          <a:ln w="0">
            <a:noFill/>
          </a:ln>
        </p:spPr>
      </p:pic>
      <p:grpSp>
        <p:nvGrpSpPr>
          <p:cNvPr id="662" name="Group 7"/>
          <p:cNvGrpSpPr/>
          <p:nvPr/>
        </p:nvGrpSpPr>
        <p:grpSpPr>
          <a:xfrm>
            <a:off x="1312920" y="4226040"/>
            <a:ext cx="5897160" cy="1733040"/>
            <a:chOff x="1312920" y="4226040"/>
            <a:chExt cx="5897160" cy="1733040"/>
          </a:xfrm>
        </p:grpSpPr>
        <p:pic>
          <p:nvPicPr>
            <p:cNvPr id="663" name="Picture 5" descr=""/>
            <p:cNvPicPr/>
            <p:nvPr/>
          </p:nvPicPr>
          <p:blipFill>
            <a:blip r:embed="rId2"/>
            <a:srcRect l="0" t="0" r="0" b="78389"/>
            <a:stretch/>
          </p:blipFill>
          <p:spPr>
            <a:xfrm>
              <a:off x="1312920" y="4226040"/>
              <a:ext cx="588312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Picture 6" descr=""/>
            <p:cNvPicPr/>
            <p:nvPr/>
          </p:nvPicPr>
          <p:blipFill>
            <a:blip r:embed="rId3"/>
            <a:srcRect l="0" t="72364" r="0" b="0"/>
            <a:stretch/>
          </p:blipFill>
          <p:spPr>
            <a:xfrm>
              <a:off x="1326960" y="4959720"/>
              <a:ext cx="5883120" cy="99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gister File Read Phase 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ad source operand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9" name="Oval 5"/>
          <p:cNvSpPr/>
          <p:nvPr/>
        </p:nvSpPr>
        <p:spPr>
          <a:xfrm>
            <a:off x="5257800" y="1371600"/>
            <a:ext cx="83808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Instruction Steering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one parallel with renaming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RC-FIFO table smaller than rename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maller delay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akeup-Select Delay reduce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Faster clock rate ~39%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PC Performance degrade &lt; 8%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~ </a:t>
            </a: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27% execution speed advantag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0B57-D77D-4F6C-96AD-A068652FCCB3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32DD-35B2-4E63-B36C-7D7CA699D2D8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2x4 wa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C5CA-E648-427D-A6F5-285AEC2FBCD1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AEF7-30E3-4A1B-BDC1-4CFFD5F23678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Picture 5" descr=""/>
          <p:cNvPicPr/>
          <p:nvPr/>
        </p:nvPicPr>
        <p:blipFill>
          <a:blip r:embed="rId1"/>
          <a:stretch/>
        </p:blipFill>
        <p:spPr>
          <a:xfrm>
            <a:off x="152280" y="1844640"/>
            <a:ext cx="6248520" cy="49435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"/>
          <p:cNvSpPr/>
          <p:nvPr/>
        </p:nvSpPr>
        <p:spPr>
          <a:xfrm>
            <a:off x="6172200" y="2057400"/>
            <a:ext cx="2971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Bypa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gle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 cluster bypa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files identical, within a cycle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Advantag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akeup-Select Function already simplifie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eer Heuristi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Dependent instr-s to same FIF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less inter cluster bypass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ritical bypass logic delay reduced – Main motivation of clustering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egfile Access delay reduced as # of por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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Heuristic Modified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wo separate free FIFO lists for each cluster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CD23-C652-433D-81D7-72D2F9D91FFE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9E97-E7FE-4204-83D6-6B4DB7976A5D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 </a:t>
            </a:r>
            <a:r>
              <a:rPr b="1" lang="en-US" sz="3200" spc="-1" strike="noStrike">
                <a:solidFill>
                  <a:srgbClr val="ffffff"/>
                </a:solidFill>
                <a:latin typeface="AvantGarde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vantGarde"/>
              </a:rPr>
              <a:t>2x4 way Dependence Arch.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vs. </a:t>
            </a:r>
            <a:r>
              <a:rPr b="1" lang="en-US" sz="2400" spc="-1" strike="noStrike">
                <a:solidFill>
                  <a:srgbClr val="3333cc"/>
                </a:solidFill>
                <a:latin typeface="AvantGarde"/>
              </a:rPr>
              <a:t>8-way baseline architectur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vantGarde"/>
              </a:rPr>
              <a:t>2x4 8-entry FIFOs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vs. </a:t>
            </a:r>
            <a:r>
              <a:rPr b="0" lang="en-US" sz="2400" spc="-1" strike="noStrike">
                <a:solidFill>
                  <a:srgbClr val="3333cc"/>
                </a:solidFill>
                <a:latin typeface="AvantGarde"/>
              </a:rPr>
              <a:t>64 entry window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vantGarde"/>
              </a:rPr>
              <a:t>Inter-cluster bypass </a:t>
            </a:r>
            <a:r>
              <a:rPr b="0" lang="en-US" sz="24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9900"/>
                </a:solidFill>
                <a:latin typeface="AvantGarde"/>
              </a:rPr>
              <a:t> 2 cycles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vs. </a:t>
            </a:r>
            <a:r>
              <a:rPr b="0" lang="en-US" sz="2400" spc="-1" strike="noStrike">
                <a:solidFill>
                  <a:srgbClr val="3333cc"/>
                </a:solidFill>
                <a:latin typeface="AvantGarde"/>
              </a:rPr>
              <a:t>all single cycle bypass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09C4-9FB7-408A-83B9-0BE0F574A81C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35F0-4481-4D58-9BB3-DFC1166C8189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4" descr=""/>
          <p:cNvPicPr/>
          <p:nvPr/>
        </p:nvPicPr>
        <p:blipFill>
          <a:blip r:embed="rId3"/>
          <a:stretch/>
        </p:blipFill>
        <p:spPr>
          <a:xfrm>
            <a:off x="495360" y="3886200"/>
            <a:ext cx="4152960" cy="289548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5"/>
          <p:cNvSpPr/>
          <p:nvPr/>
        </p:nvSpPr>
        <p:spPr>
          <a:xfrm>
            <a:off x="3429000" y="3886200"/>
            <a:ext cx="373392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str-s committed per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6"/>
          <p:cNvSpPr/>
          <p:nvPr/>
        </p:nvSpPr>
        <p:spPr>
          <a:xfrm>
            <a:off x="5029200" y="4724280"/>
            <a:ext cx="2602080" cy="10958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x Performance Degradation 12% in m88k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 </a:t>
            </a:r>
            <a:r>
              <a:rPr b="1" lang="en-US" sz="3200" spc="-1" strike="noStrike">
                <a:solidFill>
                  <a:srgbClr val="ffffff"/>
                </a:solidFill>
                <a:latin typeface="AvantGarde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vantGarde"/>
              </a:rPr>
              <a:t>Dependence Arch will have higher clock rate: 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&gt; 4-way, WinSize 32, baselin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otential Speedup over Window based architecture &gt; 88% x 125% = 110%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vantGarde"/>
              </a:rPr>
              <a:t>More than 10% performance improvement over base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A898-2E28-4697-89BB-75C254E97F91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0E38-D43C-40A7-B075-213D6C500CAF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7"/>
              <p:cNvSpPr txBox="1"/>
              <p:nvPr/>
            </p:nvSpPr>
            <p:spPr>
              <a:xfrm>
                <a:off x="1143000" y="1828800"/>
                <a:ext cx="72388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pendenceArc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ndowArc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lay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Bypass and Execute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Oval 5"/>
          <p:cNvSpPr/>
          <p:nvPr/>
        </p:nvSpPr>
        <p:spPr>
          <a:xfrm>
            <a:off x="6095880" y="1295280"/>
            <a:ext cx="114300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ata Cache Access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Oval 5"/>
          <p:cNvSpPr/>
          <p:nvPr/>
        </p:nvSpPr>
        <p:spPr>
          <a:xfrm>
            <a:off x="7010280" y="1371600"/>
            <a:ext cx="114300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8T16:05:06Z</dcterms:created>
  <dc:creator>Andreas Moshovos</dc:creator>
  <dc:description/>
  <dc:language>en-US</dc:language>
  <cp:lastModifiedBy>bongo</cp:lastModifiedBy>
  <cp:lastPrinted>2001-01-29T22:15:32Z</cp:lastPrinted>
  <dcterms:modified xsi:type="dcterms:W3CDTF">2018-03-26T23:36:28Z</dcterms:modified>
  <cp:revision>370</cp:revision>
  <dc:subject/>
  <dc:title>No Slide Title</dc:title>
</cp:coreProperties>
</file>